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00815"/>
        <c:axId val="50303244"/>
      </c:barChart>
      <c:catAx>
        <c:axId val="57100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3244"/>
        <c:crosses val="autoZero"/>
        <c:auto val="1"/>
        <c:lblAlgn val="ctr"/>
        <c:lblOffset val="100"/>
        <c:noMultiLvlLbl val="0"/>
      </c:catAx>
      <c:valAx>
        <c:axId val="50303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00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19B-F5C1-4B29-B00E-56D61F70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163-3D1A-4A5B-9760-7722660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91C-AB7D-469C-8B15-F5BFE5BF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008-1541-451D-818D-E93AA734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847-B62B-470F-BE9E-85A0567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FCB-F718-48FA-B13C-374D659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A4E-B979-4C69-8E73-E41DE65A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8CB-2410-4F94-B119-62FC282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1C9-9F9A-40DE-A106-ECD4A170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751-BE8D-4115-9275-E69A4E7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F35-01E6-4107-9928-1112148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235-4A4E-4794-8E2A-243F145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7B91C-FE08-4945-A84B-15D834ECA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