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60186"/>
        <c:axId val="47814977"/>
      </c:barChart>
      <c:catAx>
        <c:axId val="661601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14977"/>
        <c:crosses val="autoZero"/>
        <c:auto val="1"/>
        <c:lblAlgn val="ctr"/>
        <c:lblOffset val="100"/>
        <c:noMultiLvlLbl val="0"/>
      </c:catAx>
      <c:valAx>
        <c:axId val="47814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601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A16-EC98-4540-B021-D4C86531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0C2C-C53B-4C38-8FDC-6753F7ED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F0C7-01E9-4573-94B5-A4AE1313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E1F-3C81-46BF-A64F-59831137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F7E-C798-4645-A706-C2C70949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CF6-913B-4983-8F4D-45F56D4D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54F-933C-4795-AF89-8870CEE7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D2A-2398-45DD-9675-B63B7958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C55E-2821-4C74-B14A-686EAD71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8AA-0A04-44F3-9C40-F53E7BC0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1BD-D111-4168-9CB6-8D63B1D0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9E56-0F89-4946-8852-028C4E3B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C8CC2-FC71-4F4B-ADE9-40ECF74FEB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