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548139"/>
        <c:axId val="86358928"/>
      </c:barChart>
      <c:catAx>
        <c:axId val="915481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358928"/>
        <c:crosses val="autoZero"/>
        <c:auto val="1"/>
        <c:lblAlgn val="ctr"/>
        <c:lblOffset val="100"/>
        <c:noMultiLvlLbl val="0"/>
      </c:catAx>
      <c:valAx>
        <c:axId val="863589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5481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3178-BA49-4B1B-A82C-67AB0EBCA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F108-5E0F-43B4-8504-EDCF626E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5E19-76C4-486B-9333-D4342E1B2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252C-F984-4DF8-82F9-499C30A7A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22C4-B74C-412D-831F-FCBBC913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151E-6734-4AC0-940D-043FF709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64E6-C7DB-4FBA-9687-038F0686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F7B6-1891-478F-BC88-BF9F4013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8A96-307B-4F4A-BB5C-EE9BA890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D073-9D54-4F26-8477-5ADC31E0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CCD1-422E-414C-A1ED-995C5FCE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F2CC-28A1-46ED-A0FE-D5A9931B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FFCE2E-6AC1-42A7-8BF1-C6690DA3BA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