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77588"/>
        <c:axId val="70764358"/>
      </c:barChart>
      <c:catAx>
        <c:axId val="70777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4358"/>
        <c:crosses val="autoZero"/>
        <c:auto val="1"/>
        <c:lblAlgn val="ctr"/>
        <c:lblOffset val="100"/>
        <c:noMultiLvlLbl val="0"/>
      </c:catAx>
      <c:valAx>
        <c:axId val="70764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7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2D4-4543-4634-9403-D8FEFF9B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853-7072-450D-B33E-0D513CDE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0AF-1007-40A9-BBC4-9A47856E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2E9-1DE9-4EEE-8ED6-D0AAF0D4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527-EF35-4094-9CF6-BB8FB2D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B23-56BC-4279-A05B-965CB03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45D-19D2-4B31-9829-4C752A3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E28-AD60-4609-B227-030B0E1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DB4-FE3E-45E8-9977-96F6C78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690-00F5-43D1-8E32-031B641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63C-B067-408B-AE3B-21C2E19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5FA-4870-419B-B927-E336ED8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9E28D-D095-44DF-B373-90F47A1879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