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2831"/>
        <c:axId val="72646747"/>
      </c:barChart>
      <c:catAx>
        <c:axId val="6882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46747"/>
        <c:crosses val="autoZero"/>
        <c:auto val="1"/>
        <c:lblAlgn val="ctr"/>
        <c:lblOffset val="100"/>
        <c:noMultiLvlLbl val="0"/>
      </c:catAx>
      <c:valAx>
        <c:axId val="72646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2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8D6-CDFB-4BB4-A67D-B048A32D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7F9-BA65-4F2A-AA58-1C08A314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009-9607-4589-A7C2-AA1CAC56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6A3-78AD-44F0-8265-D8A8D3C3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561-1F0A-4674-9CE5-7D9A32C2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EC5-0C86-4095-A0DB-99F48493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3B6-6882-47DF-836B-9AC53769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46B-19C1-4929-8973-577AEA2F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95A-F884-4935-A69F-D8DAA126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2DA-BF42-4558-96E4-BA319ED9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738-1235-456B-8EF1-2A28FBB4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18C-27B0-4BD6-825A-F4BE402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B51B6-EFA6-418E-8FAB-42795EBAAF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