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6927"/>
        <c:axId val="70521453"/>
      </c:barChart>
      <c:catAx>
        <c:axId val="42069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21453"/>
        <c:crosses val="autoZero"/>
        <c:auto val="1"/>
        <c:lblAlgn val="ctr"/>
        <c:lblOffset val="100"/>
        <c:noMultiLvlLbl val="0"/>
      </c:catAx>
      <c:valAx>
        <c:axId val="70521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69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8B91-2EA4-4392-A4A6-2BE46F2B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2F03-B4D0-445F-8A20-735BFF8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67CF-9C76-43C2-A487-D0F5658D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F44-93D4-433B-9790-B29A958E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EDB-BB0A-4E46-B0EB-B4FE6D4F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0FC6-AE51-4EC0-91CF-324AEB58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096-6FAF-4F0F-AF2C-E3C89A05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B3C-E063-43F8-A8AE-A2DDA6C2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7574-A36E-42D5-854C-D4D1D6D5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32C2-84E2-404F-BA10-6D6D4AB9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7A6-59F6-4E01-B759-88894F92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DBEC-AF25-4671-B9B1-FCA4D7E4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5E7EE-41BC-485F-92E1-562C9F17E7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