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35468"/>
        <c:axId val="21929659"/>
      </c:barChart>
      <c:catAx>
        <c:axId val="77435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29659"/>
        <c:crosses val="autoZero"/>
        <c:auto val="1"/>
        <c:lblAlgn val="ctr"/>
        <c:lblOffset val="100"/>
        <c:noMultiLvlLbl val="0"/>
      </c:catAx>
      <c:valAx>
        <c:axId val="21929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35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DC2-DFB9-4FF1-AAF8-4727ACF9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9E5-5E41-42FA-9FCD-1958AA53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C5D-748B-4B91-8F28-2873B9DD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E32-36C3-4CF4-9534-563283C5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BC1-C760-49B0-A032-DA9F26C5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6AB-08AC-4B33-BEE3-7085B0C9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F7C-D33D-4A3F-BBC3-FB633164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E9C-FFFF-412D-8B65-FCAEA3FA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116-012C-4929-A9D7-D28D96A3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C98-4203-4C15-994F-9C5ACB04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E90-CECF-4E8E-9F48-FF04227A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A17-81F3-408D-B070-FECEA1A8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A2B99-270E-457B-823D-D20218FC56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