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87943"/>
        <c:axId val="59444388"/>
      </c:barChart>
      <c:catAx>
        <c:axId val="35187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44388"/>
        <c:crosses val="autoZero"/>
        <c:auto val="1"/>
        <c:lblAlgn val="ctr"/>
        <c:lblOffset val="100"/>
        <c:noMultiLvlLbl val="0"/>
      </c:catAx>
      <c:valAx>
        <c:axId val="59444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7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1A7-E83B-485C-A55F-61477D07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05-6483-4E1B-B4A1-FF43B788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8B3-8323-44D7-97D0-092DD4A7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16F-57E4-43DF-8B8A-87253112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77C-70B3-4CCF-A561-92BAFF4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AE6-6E94-42A3-B6FA-34C095F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0D7-6789-47DB-8B8A-43E39B9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74D-0403-462C-9A84-AD93D90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ABA-4446-408C-99FD-4AFB3A6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139-916B-45F3-87FE-04A6F7C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19C-6BB4-4BAB-BBEE-4B310B8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9C5-081E-47AB-BC21-FF04F65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7F954-C44E-4C39-BE07-C2D39129BC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