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91858"/>
        <c:axId val="88312850"/>
      </c:barChart>
      <c:catAx>
        <c:axId val="30918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12850"/>
        <c:crosses val="autoZero"/>
        <c:auto val="1"/>
        <c:lblAlgn val="ctr"/>
        <c:lblOffset val="100"/>
        <c:noMultiLvlLbl val="0"/>
      </c:catAx>
      <c:valAx>
        <c:axId val="88312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18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40A8-2F1B-4417-B2C4-49970CDE4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2247-6216-423A-AF96-AB0FBF09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CF26-4B08-44A9-B183-A1C004BA8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B9DB-90DF-475A-A357-7824BA49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F993-2471-4DEF-8710-C00985B9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C60E-D3C9-4375-81A5-75516BF17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B52E-0325-43D3-A28A-9BF74FC7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1A50-C3A8-4605-85E8-BB756E9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13E2-B809-457A-867B-3B3481FE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444D-3692-481C-9F11-5781E6CFC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C366-A364-49F1-A3F9-ED1AE7F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3B26-6B5E-44B9-A668-99B84159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A2115-7F93-4CF2-B034-364D83C72E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