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98070"/>
        <c:axId val="9705779"/>
      </c:barChart>
      <c:catAx>
        <c:axId val="65198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5779"/>
        <c:crosses val="autoZero"/>
        <c:auto val="1"/>
        <c:lblAlgn val="ctr"/>
        <c:lblOffset val="100"/>
        <c:noMultiLvlLbl val="0"/>
      </c:catAx>
      <c:valAx>
        <c:axId val="9705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98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2D2-3B32-41FB-B431-F0664B04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32B-D91B-494D-907A-FCC03420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3A8-ECCE-46D8-9381-565DAD07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99D-96F4-4C4D-B182-FB9E4567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07C-3794-430B-93B1-DA545B8C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934-23A8-462E-B81D-4F4E911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8F9-9540-4E71-8217-00FE54CF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734-F779-40DD-BBF3-48032996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720-F37D-4755-8834-4651764E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0B8-DCD2-4C5F-8398-D50863CE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D48-C1E2-45E3-9E95-75148BFA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E63-53F8-460F-AE64-2C0FFAE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94D51-5437-4CED-81FC-FF72784BBE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