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64847"/>
        <c:axId val="14269477"/>
      </c:barChart>
      <c:catAx>
        <c:axId val="95364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69477"/>
        <c:crosses val="autoZero"/>
        <c:auto val="1"/>
        <c:lblAlgn val="ctr"/>
        <c:lblOffset val="100"/>
        <c:noMultiLvlLbl val="0"/>
      </c:catAx>
      <c:valAx>
        <c:axId val="14269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64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3FC-CCA3-4A0B-A44D-53283C80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C42E-665D-43C2-A6CB-7093BA96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C28-5E2C-4191-9300-3027BD76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DF4-C2EF-47DC-9C3A-FA909108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B8B-1928-4097-BCC6-01EEAC29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047-88F0-4360-BAB3-23D4BF89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A416-DFB6-4542-82E9-8301E8EA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540-0CBB-49BF-9E54-E137F732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4178-BBA6-4E3F-91D2-DCD379AB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26A-8104-4BF4-953F-0D958521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6AC-C79D-4BD8-A0A7-73C59F9F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ABD2-83D2-4710-8790-1940D076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95BF1-4AE7-4C0B-BFB0-CEF3C74B53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