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80870"/>
        <c:axId val="25939876"/>
      </c:barChart>
      <c:catAx>
        <c:axId val="43480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39876"/>
        <c:crosses val="autoZero"/>
        <c:auto val="1"/>
        <c:lblAlgn val="ctr"/>
        <c:lblOffset val="100"/>
        <c:noMultiLvlLbl val="0"/>
      </c:catAx>
      <c:valAx>
        <c:axId val="25939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80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F4F-43C1-4184-8F16-50EF214F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089-C272-4F33-BE96-9488F1D5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4D6-3A31-43AD-8498-67E5374C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0296-0C6A-49FB-813C-6ED3D68C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E71-4B8D-4405-8691-7D3CF41E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7AF5-E70D-40BD-B732-3B9DCEB8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AA7-E03D-4CD9-882A-5DC4DD3D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8A0-CC0E-4291-88E6-93442AE8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581-476B-4F96-9F6F-B8BEFC19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604-9352-4A0F-A479-C0735EDB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349-864F-4F67-A2CF-6137CDF9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CFF7-0761-4BFB-8D17-5E9F4E0A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3F71B-4E64-4DE1-B4A4-1005AEFC1B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