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365533"/>
        <c:axId val="66215803"/>
      </c:barChart>
      <c:catAx>
        <c:axId val="743655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15803"/>
        <c:crosses val="autoZero"/>
        <c:auto val="1"/>
        <c:lblAlgn val="ctr"/>
        <c:lblOffset val="100"/>
        <c:noMultiLvlLbl val="0"/>
      </c:catAx>
      <c:valAx>
        <c:axId val="662158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655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7BDC-2E04-41C3-8CAF-5E0BC388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4324-DD0D-469A-A524-E65874D1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380E-7AD7-4F42-B044-638A48CA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2DF3-5F2E-43B0-A42B-2FE2DD3FB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E5AF-BFA0-4EEA-B06E-3258AE63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F2F0-0861-4360-B96C-BEEE6655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DF11-AD97-4DCE-886E-FA50EA0C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85D4-09FA-4C51-AB36-04AB82C1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3CB3-841A-43B9-A6B4-0447001E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A7D5-FAD2-4D2E-9ABF-2F5AF82B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7652-050E-406D-8A16-91C3E845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123D-4B6B-4C62-877C-75E67D67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7B1F5-557E-42CA-BAAA-828807F1EA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