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31759"/>
        <c:axId val="13618811"/>
      </c:barChart>
      <c:catAx>
        <c:axId val="66431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18811"/>
        <c:crosses val="autoZero"/>
        <c:auto val="1"/>
        <c:lblAlgn val="ctr"/>
        <c:lblOffset val="100"/>
        <c:noMultiLvlLbl val="0"/>
      </c:catAx>
      <c:valAx>
        <c:axId val="13618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31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AD7-DBAC-4754-ADAA-F02DCF0E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F29-F8FC-4376-8465-941C9F90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E7A-DA46-41A4-9018-294C7427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8D7-51BB-4740-97FA-D4663EDB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676-A423-4199-BD35-8403A109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B47-914A-4AA0-81D3-2BDD62D1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592-868C-4E6A-85B3-47F1EAAB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659-DFAC-42E8-9B53-D78FE02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430-7C76-4676-914F-1CA7BEF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F03-AFBC-47B8-95F0-E330F2CD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834-4838-495F-A1EF-D5A2E8F8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8B4-CADE-4234-A4F7-EEB89BE6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BC8FE-A265-4780-9625-B9FB92698A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