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132478"/>
        <c:axId val="27767732"/>
      </c:barChart>
      <c:catAx>
        <c:axId val="281324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67732"/>
        <c:crosses val="autoZero"/>
        <c:auto val="1"/>
        <c:lblAlgn val="ctr"/>
        <c:lblOffset val="100"/>
        <c:noMultiLvlLbl val="0"/>
      </c:catAx>
      <c:valAx>
        <c:axId val="277677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324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652F-EA35-4E2F-8B72-511C97550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0E16-8A2F-48D0-B92F-534E7246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AFE9-362B-44E3-BAB7-9A8071171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3751-C679-4F26-9AD6-6F4498166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F539-036F-4FD5-A36B-42ED99F1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C43C-CBA3-4459-9468-88CE3E3A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8AC5-730C-4DF0-B260-B6818E24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0D47-5CD0-48D5-9CA7-8F31D845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FCE6-92FD-4022-976C-D7438519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2996-7B9F-4C02-BF2B-D8B7A3F4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ABFE-D4BD-42DD-BEF3-7A0C3EFA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0BFD-2DC3-46E0-9AF8-221BC7CD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03D0B-AC35-49B0-B031-A25A3456E5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