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22471"/>
        <c:axId val="72494927"/>
      </c:barChart>
      <c:catAx>
        <c:axId val="54822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94927"/>
        <c:crosses val="autoZero"/>
        <c:auto val="1"/>
        <c:lblAlgn val="ctr"/>
        <c:lblOffset val="100"/>
        <c:noMultiLvlLbl val="0"/>
      </c:catAx>
      <c:valAx>
        <c:axId val="72494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2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7A7-1938-44F6-BEC4-5CB5D92C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C23-63AB-42CB-BBE7-2D608109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3B8-FB24-4741-80D2-0B83A549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DDC-E799-49E3-9FBA-633DA4E9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DA1-20EC-4DCF-B5A9-72EADB53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8B6-AB0B-4C88-8008-D933F30E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FC4-04D7-4DC8-8C1D-911B35F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BB3-0F2B-4BDE-9D68-8BAA2021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802-867C-44FD-9059-509C0A2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419-3ECB-4B1C-8144-DB9DAF2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4E2-BE8B-44F7-9D7A-8642A73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DAF-2E16-4F21-B3B0-4846254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6A249-BB8E-43C5-BBB1-1537DD244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