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98680"/>
        <c:axId val="98973300"/>
      </c:barChart>
      <c:catAx>
        <c:axId val="40986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73300"/>
        <c:crosses val="autoZero"/>
        <c:auto val="1"/>
        <c:lblAlgn val="ctr"/>
        <c:lblOffset val="100"/>
        <c:noMultiLvlLbl val="0"/>
      </c:catAx>
      <c:valAx>
        <c:axId val="989733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86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792F-4F26-4B24-95BA-3EEE7A9E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D459-3B99-446A-A261-DB6517F5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F625-EBBE-41CC-B4F1-E28212D2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F517-7213-4977-9D64-D26DBA6FB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613E-766F-4C75-AFF6-0BE9249A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2D1E-41A1-4B5C-8375-2B053344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4768-880C-4201-AF2E-78002977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2034-28CF-463C-A3A5-A3811B7D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DFAC-CF92-4AE1-8156-E8D13F31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412D-5DE0-4EDB-8B33-CA7C3F1D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7923-D512-4E8D-8EB2-DD37219D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2FD7-754D-4433-BDB8-22BF0B52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D8E93-06A1-4D8C-BE82-59234AEE54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