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91315"/>
        <c:axId val="46605230"/>
      </c:barChart>
      <c:catAx>
        <c:axId val="33391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05230"/>
        <c:crosses val="autoZero"/>
        <c:auto val="1"/>
        <c:lblAlgn val="ctr"/>
        <c:lblOffset val="100"/>
        <c:noMultiLvlLbl val="0"/>
      </c:catAx>
      <c:valAx>
        <c:axId val="46605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91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5E8-123B-46AD-A0AC-46D19283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5B5-6CAD-4784-B0A3-C3806684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15F-DCC0-4E38-8115-8D4047F5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571-7897-4D4D-B43C-DFA3302A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E36-C243-4FEB-8A08-AE60280E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17A-98F8-4ADF-9F9C-BF26DECE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018-8380-4BFE-AF31-583D3013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7A3-6403-4B07-9DF8-94351FE2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3D6-7253-4A96-AEA4-D096588A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672-425F-4C31-B71C-3115C3B3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DE0-3091-4BBA-807A-CE8CDE49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D36-071C-4203-AFD0-F4ACF343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81EDB-1BB1-48FA-9296-DA9C3ACA03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