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9410"/>
        <c:axId val="75623838"/>
      </c:barChart>
      <c:catAx>
        <c:axId val="22029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3838"/>
        <c:crosses val="autoZero"/>
        <c:auto val="1"/>
        <c:lblAlgn val="ctr"/>
        <c:lblOffset val="100"/>
        <c:noMultiLvlLbl val="0"/>
      </c:catAx>
      <c:valAx>
        <c:axId val="75623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9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9C7-9EFA-4C7B-AA3C-DA028081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288-09F8-4DDF-B94A-57DE1F2D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0AA-BD4A-45F8-B6C8-07A87C6A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215-01DE-4842-8A29-477C6028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403-6607-4E11-A092-430CBF5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814-1EC7-47B1-BA99-56BB9B4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157-B774-4E01-9D50-9F903CA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EC6-5B9F-463A-92E4-54144A6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D44-FC34-4BDB-847D-CEF68A9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403-8965-42F6-B13C-E27C974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1B4-FD20-4341-AEF2-C1CF827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D70-C53E-4D9C-A35F-D5E96B2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FA818-8646-4B71-A07A-D79D6541A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