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69543"/>
        <c:axId val="47648057"/>
      </c:barChart>
      <c:catAx>
        <c:axId val="46069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48057"/>
        <c:crosses val="autoZero"/>
        <c:auto val="1"/>
        <c:lblAlgn val="ctr"/>
        <c:lblOffset val="100"/>
        <c:noMultiLvlLbl val="0"/>
      </c:catAx>
      <c:valAx>
        <c:axId val="47648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69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CCA-92F8-46BE-80DD-2FDE146A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118-166E-4468-BFB3-5886B3B3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2BD-21C7-4B9E-B68D-41327D37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8F9-3B18-4D06-BD00-1A95FF31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9F3-8874-430A-A014-6834C433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AAE-25E7-4868-BAE4-67FC8A8A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D2F-35F7-472A-A475-1DD92B39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194-BC16-4DCA-831F-8B87CEF5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68B-5227-40B3-A7DC-E5928E30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384-A1FC-4757-AB8F-FBC6DB6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256-5308-456C-9B6A-3FF05B2A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A1D-2379-46CB-BEE8-E73F7F9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F3B3C-5F8E-44F7-B9C1-323D547748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