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4939"/>
        <c:axId val="66819091"/>
      </c:barChart>
      <c:catAx>
        <c:axId val="98749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19091"/>
        <c:crosses val="autoZero"/>
        <c:auto val="1"/>
        <c:lblAlgn val="ctr"/>
        <c:lblOffset val="100"/>
        <c:noMultiLvlLbl val="0"/>
      </c:catAx>
      <c:valAx>
        <c:axId val="66819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49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886-3163-4443-9B7B-BA56FE65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6CD7-9B67-41E0-838E-9B4754D6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AB8-F517-4827-A15C-ED7A300F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FBAF-15F4-47F0-A395-2C37040E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B0D-E3FA-45B1-A320-52727AD0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4BD0-FB6C-45FB-9B19-43D63299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40E-7051-4180-959C-ACDCC2AB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8E6-57D8-4D21-9D9D-F3DCE24E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20F6-9941-4A4E-8BB2-A7198E2C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695-EFF3-45B7-AEB0-6596DF34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A08-D15D-4F69-9A90-DE25D4D3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4F6B-F802-4211-83BD-6560C546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0AF97-B448-4E48-8A63-435C4EAFC7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