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12611"/>
        <c:axId val="88014515"/>
      </c:barChart>
      <c:catAx>
        <c:axId val="38312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14515"/>
        <c:crosses val="autoZero"/>
        <c:auto val="1"/>
        <c:lblAlgn val="ctr"/>
        <c:lblOffset val="100"/>
        <c:noMultiLvlLbl val="0"/>
      </c:catAx>
      <c:valAx>
        <c:axId val="88014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12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C72-596E-49E6-8370-E5258F81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EAA-D2EE-4C56-99BE-9DD5F2E0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141-2E04-4D8A-AA04-F6E240BA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2B4-F554-4CDB-B99A-A3FC45AF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1BC-833E-459E-B800-BFF92A5B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D83-2F4C-407D-A10A-CA47ECBB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071-08D9-409D-8FDF-70A5161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C1D-7BD9-417C-8B75-EFF8DA8C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6E5-0F7D-4FA6-91EE-9C8F11C5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2F5-9054-4A75-BBD0-5621A535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8EB-7EDB-4D41-8F9E-3F6CB572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7B9-698B-4E40-B656-65D5DF37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D1A9A-E202-42A1-AF31-CA6BC9F4EF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