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83226"/>
        <c:axId val="57646658"/>
      </c:barChart>
      <c:catAx>
        <c:axId val="92683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46658"/>
        <c:crosses val="autoZero"/>
        <c:auto val="1"/>
        <c:lblAlgn val="ctr"/>
        <c:lblOffset val="100"/>
        <c:noMultiLvlLbl val="0"/>
      </c:catAx>
      <c:valAx>
        <c:axId val="576466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83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D51D-23D0-472C-8A2E-1A3A7B70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EC1-408E-4626-A2A1-3CD08634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A998-7262-42BC-87FE-AA12A661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E6C5-0DFE-4336-8599-835C8E71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FAD-9FF9-48E8-B4E8-E2AFE3D7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EBA7-4C0D-4A8B-B3BD-E2FBA9AC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C98-65D9-4A85-A014-01139DE4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5D71-DEB2-46FF-85BA-5D4350EC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8D68-9A60-450B-8DE7-800D8F8E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D437-2100-4162-BBA6-C35E944F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BAC2-78C2-4100-8BE6-810E5A16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0E3-C1E2-41A0-BB0B-4AC210C3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F0D0F-6A5C-4217-A2BC-365046AB86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