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45282"/>
        <c:axId val="57870872"/>
      </c:barChart>
      <c:catAx>
        <c:axId val="384452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870872"/>
        <c:crosses val="autoZero"/>
        <c:auto val="1"/>
        <c:lblAlgn val="ctr"/>
        <c:lblOffset val="100"/>
        <c:noMultiLvlLbl val="0"/>
      </c:catAx>
      <c:valAx>
        <c:axId val="57870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52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C73-9665-4A57-8BC9-35DE3012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E5B-E721-478B-A600-82CC4D63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157-7863-400A-A3CB-3858A19B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F2D-76CC-463D-A6A2-F15CA837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590-924C-4BE4-A724-434E3952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3A3-0C48-4D54-98B7-05643636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C3B-A258-4965-BD32-51F850DE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C50-7835-43F7-972C-D0E4CDC5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EDC1-F0E8-4980-8CB1-D16BD9F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F05-FB6B-4007-B040-74A7F55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BAF-D27B-4108-AF3F-74DC7A17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D30-91F2-43CC-85B0-E4E3DDB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B47B1-65B6-45E3-AFCA-93F6BBC8D3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