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37306"/>
        <c:axId val="58509674"/>
      </c:barChart>
      <c:catAx>
        <c:axId val="78437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09674"/>
        <c:crosses val="autoZero"/>
        <c:auto val="1"/>
        <c:lblAlgn val="ctr"/>
        <c:lblOffset val="100"/>
        <c:noMultiLvlLbl val="0"/>
      </c:catAx>
      <c:valAx>
        <c:axId val="58509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37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844-C216-4A6F-8FC0-729BDA3F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46C-1CCE-450D-8D94-5DB6268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75C-5D30-44CD-8882-0C9330D8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F09-5F5A-43DE-80B3-F4889611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ACF-213D-43A1-BF98-A75F857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620-1DDE-467B-98C0-15E5E61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8CD-5C4B-4BC5-A00C-2B2E7631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D55-621E-42E9-B1F6-6B0E342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61F-3A67-4B29-977F-57B7A251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D72-561A-4E6E-A522-00CC3EE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699-035E-40DB-A4DE-3F98CD7C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742-37B7-4E4A-8162-02FF9BE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3DD47-FB85-4175-B712-AD0B5244A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