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10271"/>
        <c:axId val="83505719"/>
      </c:barChart>
      <c:catAx>
        <c:axId val="95710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5719"/>
        <c:crosses val="autoZero"/>
        <c:auto val="1"/>
        <c:lblAlgn val="ctr"/>
        <c:lblOffset val="100"/>
        <c:noMultiLvlLbl val="0"/>
      </c:catAx>
      <c:valAx>
        <c:axId val="83505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10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2D4-BC34-4F30-AB88-944E8F51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C2E-1714-4F89-9DE7-A533A5DD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6D5-AA9C-46A2-8CB2-DE522591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7CD-1F14-4AEC-910F-8D325FB1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D0C-4939-458A-80AF-2E97B181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5C9-4F33-49EA-AD40-2E3039CA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C30-F0A9-4C92-845E-8AEE1887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5B3-12A2-4E73-AC93-84E50618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D89-D9F4-41F1-9423-E1C27181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CB4-73EF-48AC-BB00-4A8235D5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2EA-2115-4476-ABEB-56C69809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5FC-3F14-44A2-8392-7919B4E2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6E657-DA52-4022-9C2D-9EE7385157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