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82708"/>
        <c:axId val="29114835"/>
      </c:barChart>
      <c:catAx>
        <c:axId val="63582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14835"/>
        <c:crosses val="autoZero"/>
        <c:auto val="1"/>
        <c:lblAlgn val="ctr"/>
        <c:lblOffset val="100"/>
        <c:noMultiLvlLbl val="0"/>
      </c:catAx>
      <c:valAx>
        <c:axId val="29114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82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5D0-0536-4A21-AB4F-266BC6F2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1AE-291F-486C-A76B-E5A0C6DB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CE4-3C79-44ED-81AD-1493C371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C41-D7BE-4D77-891C-F6511D82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BB8-10B9-45A6-AE2E-907D9D0D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3C1-5F24-46DE-8368-2C8B4CEC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0C7-E735-4127-85DE-2FD748FA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C31-2AFD-418E-9F03-3DD57F8B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A1A-EE89-4446-BDDA-3A28DD21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677-A67F-489D-A005-62442CF1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288-81CC-4DA3-92C2-4A7286E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CBB-6FB7-4A07-AABF-F3A9914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B8C02-86AF-4742-9289-6F80691BFF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