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46651"/>
        <c:axId val="30099738"/>
      </c:barChart>
      <c:catAx>
        <c:axId val="71246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9738"/>
        <c:crosses val="autoZero"/>
        <c:auto val="1"/>
        <c:lblAlgn val="ctr"/>
        <c:lblOffset val="100"/>
        <c:noMultiLvlLbl val="0"/>
      </c:catAx>
      <c:valAx>
        <c:axId val="30099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46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8F9-0401-4A26-A749-0FF64B98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B38-3B10-48B6-BE40-51278CFA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9DB-4A30-4355-907E-AA6137DB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FCE-C008-400E-ABED-55C77ABA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9BB-D613-4948-B0A5-9D54EAE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254-207A-42EC-B278-25A3C2B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EBB-03C0-47CD-8EC6-47327AC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E0C-50B8-41DF-926F-3515CDB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9D7-7BC6-4D7B-BF5C-551F87B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1E5-7A06-4B8B-B7C1-211F6AA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962-EE95-4B5D-BC8F-4C4570B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14D-CE09-4349-8FCE-FE9E523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53D3B-659B-4D95-B0D7-FEA8C4913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