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44237"/>
        <c:axId val="52161960"/>
      </c:barChart>
      <c:catAx>
        <c:axId val="82344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61960"/>
        <c:crosses val="autoZero"/>
        <c:auto val="1"/>
        <c:lblAlgn val="ctr"/>
        <c:lblOffset val="100"/>
        <c:noMultiLvlLbl val="0"/>
      </c:catAx>
      <c:valAx>
        <c:axId val="52161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44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8F5-520A-447F-B3FA-96343206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FB3-9764-4E5D-9476-4A007A0A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8D9-FE43-497D-B9F8-7A8C781D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1F1-C3D9-40B8-80BA-B07DBE26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468-491D-4725-9664-C1EA0702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AB3-EBB4-45F6-94C2-B2477DFC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DD9-20CC-48BF-938E-1F5555D2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598-07DD-44D5-ADD3-C06CE8E0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65A-10EC-4295-A1F0-F5F0EF5E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83D-9CFB-4E35-94C0-EAA60D75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4F1-0E9B-4700-B1B7-60202FE1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2DB-F819-47E3-874A-6356B078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2A102-DF91-4D6D-AECA-74DB317C1E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