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36924"/>
        <c:axId val="88434900"/>
      </c:barChart>
      <c:catAx>
        <c:axId val="78936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34900"/>
        <c:crosses val="autoZero"/>
        <c:auto val="1"/>
        <c:lblAlgn val="ctr"/>
        <c:lblOffset val="100"/>
        <c:noMultiLvlLbl val="0"/>
      </c:catAx>
      <c:valAx>
        <c:axId val="88434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36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C43-C10E-4405-B356-E0F96A6C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33A-1F44-4CF2-A8F3-1BE34A39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31C-6BAA-4EE7-BE46-9CD35DB1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CEE-5A15-40AF-8D1A-0C473149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868-1674-48A8-9057-99E292EC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456-AD7F-4775-BEE5-896C2D5D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381-89E8-4786-A2AA-139129D2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C81-55F9-425D-9CDA-1EAA4632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D8F-BA08-4860-AF5A-D0327AB6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B3E-A1DA-40FD-A43B-BC41601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FA3-DCA6-4C17-B498-5BD93CA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1F4-8C35-4960-8E2A-E11174D9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DBB0C-F353-46EE-9823-C711451C80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