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09301"/>
        <c:axId val="4558531"/>
      </c:barChart>
      <c:catAx>
        <c:axId val="13109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8531"/>
        <c:crosses val="autoZero"/>
        <c:auto val="1"/>
        <c:lblAlgn val="ctr"/>
        <c:lblOffset val="100"/>
        <c:noMultiLvlLbl val="0"/>
      </c:catAx>
      <c:valAx>
        <c:axId val="4558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09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E83-D99C-4542-B995-C1EE48D8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C4E-321D-4261-9A65-F877E73C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9E7-3455-4DAF-A3BF-4321D2E5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5A4-B847-4B32-A523-D9DC0D2E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3F8-C7A6-44A9-8B4D-7FB3B096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F63-2D0F-421F-BC7B-625AAC09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E5E-FABA-48A7-9B81-B8C776D9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8A4-4AD7-4376-A16F-F1EB9E28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8D8-8A13-48C4-9F76-6A714C79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71D-0873-4F67-AB31-BD6C10C1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96C-B4D7-4F68-8BAE-CA7D99F4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01C-374A-4072-A951-51EE7E16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60712-F464-4456-AAC5-82AB94CCDC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