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16300"/>
        <c:axId val="72285610"/>
      </c:barChart>
      <c:catAx>
        <c:axId val="83916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85610"/>
        <c:crosses val="autoZero"/>
        <c:auto val="1"/>
        <c:lblAlgn val="ctr"/>
        <c:lblOffset val="100"/>
        <c:noMultiLvlLbl val="0"/>
      </c:catAx>
      <c:valAx>
        <c:axId val="72285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16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2CC-8C9B-4DE9-ACCB-7BB7D3D0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10F-F18C-4854-BEEC-3BB9959E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632-F0B7-40B7-9F5B-68D97E09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D61-23F1-4C70-9FD2-CA4A8486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9A5-22AC-48E3-AA80-D6E252C0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0B0-98DD-4FF9-8A95-8513AA46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1F8-A279-4119-A290-5B1BCFCE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6A2-DAA2-4260-9867-3D5C73CA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6DB-8A03-4C6D-A245-6A88221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2BE-FD36-4589-A8B0-7780C0C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F61-BCA8-41BC-98BA-B5189CF8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09B-07F2-40F7-8A63-7CD9D9A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326C1-EED4-444C-B681-82B2DC03C7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