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0336"/>
        <c:axId val="99498362"/>
      </c:barChart>
      <c:catAx>
        <c:axId val="3060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8362"/>
        <c:crosses val="autoZero"/>
        <c:auto val="1"/>
        <c:lblAlgn val="ctr"/>
        <c:lblOffset val="100"/>
        <c:noMultiLvlLbl val="0"/>
      </c:catAx>
      <c:valAx>
        <c:axId val="99498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0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937-FB51-421D-B7A3-809B46DB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440-C7C8-4619-A7B3-40A08F9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315-34BA-41FA-A57C-B9ABB6DD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1CA-A257-40D0-ADE9-9E198FD0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0A7-3EC9-49C4-8CCE-365FAA0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10B-0CE4-4093-B6E6-AC922070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26D-B96C-4614-8202-73681343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863-AC2C-4C40-8C1C-B6223188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01C-73FD-45FB-AC9E-B6BC9DF2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789-7665-4F17-86F4-D24560E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B90-4256-4857-A91D-1635628B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6AD-4739-4E86-86ED-42E22628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037BF-071D-47E1-899B-0A1B83A968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