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59149"/>
        <c:axId val="73838202"/>
      </c:barChart>
      <c:catAx>
        <c:axId val="59459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38202"/>
        <c:crosses val="autoZero"/>
        <c:auto val="1"/>
        <c:lblAlgn val="ctr"/>
        <c:lblOffset val="100"/>
        <c:noMultiLvlLbl val="0"/>
      </c:catAx>
      <c:valAx>
        <c:axId val="738382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59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1DA-DD61-45C2-8B69-9DF83243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8A9-2C21-4294-AF8C-1E1DB097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696-43FE-49DF-A7D9-B08E5338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E60-3E89-42F9-996C-0701E73A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AD2-C51E-486C-9488-5376214C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D47-200F-453A-8E32-372F29E1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677-5CAD-4D1E-995B-0B7B8EDF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962-8E73-4AB7-893F-16F28F84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EA9-901F-43E7-8946-DE16D08E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06B-F555-4FDD-9EBB-A3677866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586-0616-4E9D-B808-E5035BA4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912-8F6B-44F4-8A05-3A8C7C1A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B21C2-BB7A-4A9B-AE70-98E4DF9EF9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