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85018"/>
        <c:axId val="52716348"/>
      </c:barChart>
      <c:catAx>
        <c:axId val="85885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16348"/>
        <c:crosses val="autoZero"/>
        <c:auto val="1"/>
        <c:lblAlgn val="ctr"/>
        <c:lblOffset val="100"/>
        <c:noMultiLvlLbl val="0"/>
      </c:catAx>
      <c:valAx>
        <c:axId val="52716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85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B74-B445-4881-AFB4-E0C4D299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766-55F9-4666-97B5-BD3061FC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101-AA29-4717-A3EC-EFB2655D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ECB-65CE-4B1C-A219-0874F449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285-A420-4E9D-865E-A47B7CA8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B271-0A80-4E42-8519-1C91D003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A36-0016-4767-B3DB-E37F0105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6EC-E71A-4DDC-851C-FC485F9B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842-D194-4A6D-92B1-C8606B3F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E32-142B-45BC-A19B-43AA6ADB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5F4-E1F0-49F2-AAC1-4460747B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2BE-CE91-48F6-A910-8F86F863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9D818-318F-457A-9300-9F9ED71898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