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1496"/>
        <c:axId val="52480689"/>
      </c:barChart>
      <c:catAx>
        <c:axId val="7431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0689"/>
        <c:crosses val="autoZero"/>
        <c:auto val="1"/>
        <c:lblAlgn val="ctr"/>
        <c:lblOffset val="100"/>
        <c:noMultiLvlLbl val="0"/>
      </c:catAx>
      <c:valAx>
        <c:axId val="52480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1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E5C-71E2-448B-8618-EB326FB4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9BA-6BB0-4CFD-9185-D393E38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CE5-EB31-42E6-BB06-DEB589BF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999-3034-44D7-818B-A038E3D7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21D-276A-48F0-B542-73C15253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743-892B-4BB2-B265-58928D43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DB4-6738-4F1D-A61D-4262DC3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F6E-AA4E-4E5C-885F-63F8D257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3BB-4F8E-428A-A060-BA3D9E8E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9EA-C9A6-47CB-ABA0-512EF816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CBB-241B-43B7-A454-3DA55FC8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408-AE56-464B-8990-232DC0DA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655C8-B751-4FE5-9F1B-0A3F80FE20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