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9209"/>
        <c:axId val="70634636"/>
      </c:barChart>
      <c:catAx>
        <c:axId val="753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34636"/>
        <c:crosses val="autoZero"/>
        <c:auto val="1"/>
        <c:lblAlgn val="ctr"/>
        <c:lblOffset val="100"/>
        <c:noMultiLvlLbl val="0"/>
      </c:catAx>
      <c:valAx>
        <c:axId val="70634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40C-0957-4BF6-9FBA-558A5639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5B4-A9BA-42B3-A274-4502FB1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192-3DF1-4616-9522-86AEF694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4B6-F545-4895-806F-0B5085F0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459-5F2B-4D45-885E-57A48C3D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B19-EACF-4C11-88B5-B34FCACE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13A-A593-4505-8BD1-D083165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DF4-4536-4E99-9D4D-54FAE5E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371-148A-441B-83D7-288A6D5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B5B-EE2D-490E-A541-7E7D631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9B2-2C70-4C7A-881B-872E8DB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D72-D640-4E8B-A9A9-1BCAA47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98803-534D-4ADD-BCE6-29C7364DC0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