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61714"/>
        <c:axId val="21843294"/>
      </c:barChart>
      <c:catAx>
        <c:axId val="86061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43294"/>
        <c:crosses val="autoZero"/>
        <c:auto val="1"/>
        <c:lblAlgn val="ctr"/>
        <c:lblOffset val="100"/>
        <c:noMultiLvlLbl val="0"/>
      </c:catAx>
      <c:valAx>
        <c:axId val="21843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61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E03-C924-4B2C-852F-8F19B9AB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447-A66A-48C8-AB5D-448838D5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A3B-36FB-4D8F-A3F4-01C47537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D39D-45DC-4109-9DBD-CEFE0C93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D2D-F0D6-4C47-B7D1-9BE0118C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213D-AEE9-4C15-87D9-1A8AF5C3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33F3-8401-4759-8994-1EB6714C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3389-E33C-49AA-9463-004F6C7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0888-4D38-4E75-B687-BA7E7918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0F9-988D-4CBD-BE34-4167F26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2385-E8D2-45B9-9768-7F60A87D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15A-0F64-4F1C-A6D0-D0E9BC75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D03F8-0875-408F-ADC6-A26E99D55A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