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48516"/>
        <c:axId val="50803249"/>
      </c:barChart>
      <c:catAx>
        <c:axId val="77648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3249"/>
        <c:crosses val="autoZero"/>
        <c:auto val="1"/>
        <c:lblAlgn val="ctr"/>
        <c:lblOffset val="100"/>
        <c:noMultiLvlLbl val="0"/>
      </c:catAx>
      <c:valAx>
        <c:axId val="50803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48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A6C-037C-4C24-99CB-2605549C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19F-E164-401B-9BF3-AF9BC2AB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B29-E9DD-444E-9F2F-F60B55D9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0A5-DC72-4A46-93BA-EAAA3C55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BD9-F516-495B-B875-FBA62781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463-5372-4D19-8226-C70A68E8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C28-E586-481D-BDC4-4C43EE85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9A9-AB52-4A2C-BA5E-364EDEDC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577-16AE-46CB-B8B1-D45B7C72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A99-C769-4B69-A3F4-7AB7927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EE4-167F-4E51-B18B-7E89DD4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9B0-27A6-4BA0-9CCB-0A6F13B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E0ED2-6B61-40D1-A6E2-F1CDB1147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