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98027"/>
        <c:axId val="15527277"/>
      </c:barChart>
      <c:catAx>
        <c:axId val="29598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7277"/>
        <c:crosses val="autoZero"/>
        <c:auto val="1"/>
        <c:lblAlgn val="ctr"/>
        <c:lblOffset val="100"/>
        <c:noMultiLvlLbl val="0"/>
      </c:catAx>
      <c:valAx>
        <c:axId val="15527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8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597-54DA-43A5-A551-1DCB62B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933-DE0D-4041-A643-327F3396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06A-7C40-4789-B695-B610BDF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8A7-1BE7-4987-9FD2-B989C134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26D-1F4B-4BAF-B362-FC0F7823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D95-6560-4F7F-B40C-E83F14D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B56-C0AA-4DA5-9A8A-289BAF2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279-1D4A-4C27-AD68-52C73549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C8B-D4EB-4ADE-ADE5-D0B4343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547-9213-4A84-9083-2EE19B1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40D-2A29-4C86-92AB-9694502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333-985D-4204-BF57-85AAF74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0E6D6-04A6-4B0E-A96A-0FBF3375B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