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08863"/>
        <c:axId val="18843532"/>
      </c:barChart>
      <c:catAx>
        <c:axId val="95508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43532"/>
        <c:crosses val="autoZero"/>
        <c:auto val="1"/>
        <c:lblAlgn val="ctr"/>
        <c:lblOffset val="100"/>
        <c:noMultiLvlLbl val="0"/>
      </c:catAx>
      <c:valAx>
        <c:axId val="18843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8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CC8-9937-4101-AE60-414F023C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112-5D84-4B87-8D5B-B5BE864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E32-E8BB-4D6F-AD60-CB70CB0E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99C-C11E-48D5-A84E-384E62B4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48D-6D49-4743-BA09-61ECAB94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068-9467-405C-A30B-225CEA3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7F3-CEFD-4B20-89B8-EB1B8A63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7E5-1B34-466D-A7B5-A84C287D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82A-AEF1-4C3B-98CF-339DC768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401-8369-406F-B99A-5EFDA0B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A08-AC43-4000-AC32-8E425A63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301-FDB2-4758-A312-FFA6578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8A5BB-9C58-4230-8077-72608A1AA6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