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33584"/>
        <c:axId val="50800253"/>
      </c:barChart>
      <c:catAx>
        <c:axId val="47033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0253"/>
        <c:crosses val="autoZero"/>
        <c:auto val="1"/>
        <c:lblAlgn val="ctr"/>
        <c:lblOffset val="100"/>
        <c:noMultiLvlLbl val="0"/>
      </c:catAx>
      <c:valAx>
        <c:axId val="50800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33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253-D93B-42EC-BA2E-CD22F3C7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C6C-76F6-4F54-A93D-3D05D5C6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B1F-4C4A-4B62-9D43-9721DF9D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EA2-DE20-4D42-9BC1-91D300CA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97C-4843-4C1C-8BFB-B6CF230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5BD-3EF1-4657-8E5C-00440EA1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7A0-C570-4247-80DC-A0DFEB0D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CD1-D557-4521-838C-51C6117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C4C-1884-45CC-94EE-50CAB7F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93E-0487-423A-AEAB-96DD64A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B5A-94CC-4AAD-B08B-6060D98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7A8-60C0-4DD9-9B26-35A45D6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19856-CC8D-4061-9674-67F9B5C147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