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31045"/>
        <c:axId val="74641944"/>
      </c:barChart>
      <c:catAx>
        <c:axId val="27431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1944"/>
        <c:crosses val="autoZero"/>
        <c:auto val="1"/>
        <c:lblAlgn val="ctr"/>
        <c:lblOffset val="100"/>
        <c:noMultiLvlLbl val="0"/>
      </c:catAx>
      <c:valAx>
        <c:axId val="74641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31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5A0-C63B-4972-920D-9B25913B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AE5-8E98-4A04-884F-A3F61C31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156-FB3E-469B-AD42-BCA6A521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A5E-2277-4E72-B728-79D50AA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528-8D9D-41D7-B487-CCC92BB2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CB9-6FE5-4BA4-BA1A-8EC0680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285-F739-4246-AAE7-8680D81D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A89-2D18-4419-8A89-4CEA88A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197-45EB-402A-8EC3-FFFCA22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CA1-54E0-481F-A710-9417A04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480-1123-4CBE-9A30-E35FFD8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B0F-A2B4-44EE-A732-60937F6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9C860-2D22-4AB8-A862-6487039D33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