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20061"/>
        <c:axId val="78372969"/>
      </c:barChart>
      <c:catAx>
        <c:axId val="423200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72969"/>
        <c:crosses val="autoZero"/>
        <c:auto val="1"/>
        <c:lblAlgn val="ctr"/>
        <c:lblOffset val="100"/>
        <c:noMultiLvlLbl val="0"/>
      </c:catAx>
      <c:valAx>
        <c:axId val="783729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200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4ACE-87FD-4F5B-BE35-34036A5A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F85A-2321-427B-82D8-ED47598A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9D9B-5E2C-42CB-89E1-B69D7A21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B58-FC68-4F4E-BA4E-6EA39563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FC90-3D37-4CB6-BAD8-64B7129C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6A83-5DED-48B7-8F92-4A3AE30E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34FC-2D1D-4A20-B37B-6E4FB9B0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5BC4-D000-4774-84BF-D024B3D0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8906-760C-46E4-9914-10BEA945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2850-7D05-426D-B76D-B98E9BDD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B50B-5B7B-4822-9963-B2E5DF66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6672-78FB-42B0-A130-2EDAE8F8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9C3B9-DC33-41D5-ADDA-75C3AA7032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