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906316"/>
        <c:axId val="9856729"/>
      </c:barChart>
      <c:catAx>
        <c:axId val="829063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56729"/>
        <c:crosses val="autoZero"/>
        <c:auto val="1"/>
        <c:lblAlgn val="ctr"/>
        <c:lblOffset val="100"/>
        <c:noMultiLvlLbl val="0"/>
      </c:catAx>
      <c:valAx>
        <c:axId val="98567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9063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E151-B4F9-42AB-90B9-6FA14D0DC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B521-4679-449B-99EB-B0D2EE9CF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D8D2-033F-413F-8A22-FF132289E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3673-3163-490D-A7E0-CD0508532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AC8A-E2B2-469B-B711-865988965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686E-392B-40E4-85AD-61AD4F115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7715-B594-455B-9F9F-EB4DA84A2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82E5-A7C1-4298-84D8-5674FC0E6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E5B3-5D1C-40FE-BBF5-86055F029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5EBA-A98A-48D8-B25D-6F7A9CAB4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AD2C-4147-467B-A3A8-7DB3C72C3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EA67-415B-4E42-8DEF-73367AEA5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ADC795-F312-41CC-A98A-761E37EA338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