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2289596"/>
        <c:axId val="67179751"/>
      </c:barChart>
      <c:catAx>
        <c:axId val="6228959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179751"/>
        <c:crosses val="autoZero"/>
        <c:auto val="1"/>
        <c:lblAlgn val="ctr"/>
        <c:lblOffset val="100"/>
        <c:noMultiLvlLbl val="0"/>
      </c:catAx>
      <c:valAx>
        <c:axId val="6717975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28959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EAAD-60A1-42DF-AF8A-26F3D63ED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60A3-341F-4023-ADC0-714ECF176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47C2-03FD-4278-9132-DC1768F38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BC62-9D42-46F0-A2AF-FCB21E093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727F-28BF-4422-9A22-248DB1FC5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ABA0-FB21-4A09-A0DA-02F3C06E3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EB12-A278-4931-84EB-A087D55FB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5669-20FA-4D0E-98CA-F775494EC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90C5-CB86-4596-82B6-3AB8B7228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05B3-CF86-4963-A04A-B1291D40F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C1EB-8FDE-43DA-886F-A1ECA91C8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C96A-834B-49C7-B71A-6439C81D0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95D768-CCD5-4E68-AA30-D5C86372D8F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