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33792"/>
        <c:axId val="53351895"/>
      </c:barChart>
      <c:catAx>
        <c:axId val="2593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51895"/>
        <c:crosses val="autoZero"/>
        <c:auto val="1"/>
        <c:lblAlgn val="ctr"/>
        <c:lblOffset val="100"/>
        <c:noMultiLvlLbl val="0"/>
      </c:catAx>
      <c:valAx>
        <c:axId val="53351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C40-40DD-4054-A64F-CFC20D19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361-9B04-410A-858D-1BF1BBED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F64-EF00-4610-9E0E-B1721A40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1A4-7398-435A-B9EE-438832C5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096-6EB6-4C8E-98A2-EDCB4174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3A5-2480-4F65-875B-1D3CD061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900-1835-430F-ACEB-0E11E6A9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526-D95B-42F3-B0C5-CC4FE4A2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B02-C15B-464B-A82F-56075F23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DD3-4DE0-42E8-9E9A-776FC541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7C0-C2D1-4B4D-8AD5-4742879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3ED-4AB6-4981-87FC-BF396D9C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DA5F1-B6C0-4156-AC8F-D1A2C81105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