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33364"/>
        <c:axId val="14431308"/>
      </c:barChart>
      <c:catAx>
        <c:axId val="77533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31308"/>
        <c:crosses val="autoZero"/>
        <c:auto val="1"/>
        <c:lblAlgn val="ctr"/>
        <c:lblOffset val="100"/>
        <c:noMultiLvlLbl val="0"/>
      </c:catAx>
      <c:valAx>
        <c:axId val="14431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33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2A7-4E12-4438-8AC8-004B3279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E3A-5A35-4E6C-A88D-0BD5117E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FB1-EAA4-47E4-9124-5587C441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42F-33BE-43DE-B770-AA205ECB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0F0-733E-4206-B788-649C30DE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166-9636-4425-919A-6004313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10D-E607-4CD7-8EAE-D3F1371E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B60-FBAD-4631-847A-389EBFA4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2E0-E2C1-4B81-B74C-73DDBF82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8BF-B994-4F18-B27B-8CC1114F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412-5197-4FF9-A8ED-BC537DD8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182-04AC-4EAD-8800-AF7DC84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42C53-2963-4A10-90B2-C598E89387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