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431829"/>
        <c:axId val="29869692"/>
      </c:barChart>
      <c:catAx>
        <c:axId val="324318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69692"/>
        <c:crosses val="autoZero"/>
        <c:auto val="1"/>
        <c:lblAlgn val="ctr"/>
        <c:lblOffset val="100"/>
        <c:noMultiLvlLbl val="0"/>
      </c:catAx>
      <c:valAx>
        <c:axId val="298696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4318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299F-FBD2-4329-9FB4-5D2B53D9B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7E96-0A55-4A5E-9AD8-A8DD4EA79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422B-CB3B-48A3-9EAF-C2B099345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A64E-3435-4172-AF54-95B0D6A9F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58FC-5C58-413B-A187-FD676717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C422-D72E-4AE2-8C24-097192DB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5C3E-0A5A-4E96-9963-41893D6A3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DC76-3071-43BC-A94F-ADBFB181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624B-A348-4427-9AA0-0F21A7B9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9EEE-DAEA-40EA-9517-B40856C3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7639-DC10-4213-AB93-642A1A32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2AA3-C856-49D6-B13F-476D9797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C833D2-DB50-4945-8B5A-2A8F9AFBF2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