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94416"/>
        <c:axId val="60779680"/>
      </c:barChart>
      <c:catAx>
        <c:axId val="78994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9680"/>
        <c:crosses val="autoZero"/>
        <c:auto val="1"/>
        <c:lblAlgn val="ctr"/>
        <c:lblOffset val="100"/>
        <c:noMultiLvlLbl val="0"/>
      </c:catAx>
      <c:valAx>
        <c:axId val="6077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94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5DA7-4455-44E1-90DE-38BE97E9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5483-D29F-4688-AFC7-15F0E6E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B11-A30A-47FC-927A-D6266481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7E2-9500-4776-8BD8-39253D80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079-3962-418F-ACD6-0FCC7010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C33-FF33-42CE-A752-2029E4E2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327-1F0A-4E02-B23B-C9E0E48E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1F0-6638-42D8-A40F-14F0E8E2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54E0-4AA5-4706-9BF0-D90F0EAB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64D3-98D2-4DA2-AC94-2906473B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B49-6F91-4F23-B684-FE918429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EC6-BAF3-4A67-9052-759844A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65EBF-1EC5-40E1-8784-B3A7D31589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