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92762"/>
        <c:axId val="632246"/>
      </c:barChart>
      <c:catAx>
        <c:axId val="27792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246"/>
        <c:crosses val="autoZero"/>
        <c:auto val="1"/>
        <c:lblAlgn val="ctr"/>
        <c:lblOffset val="100"/>
        <c:noMultiLvlLbl val="0"/>
      </c:catAx>
      <c:valAx>
        <c:axId val="632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92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865-8DDA-4959-912E-E9284EE0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454-B3A5-440C-A983-A517EE3A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41F-4382-44AC-A953-D7DBE2B1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FF2-41C7-4EBC-912C-0308A9DF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024-F90C-42F0-A372-BEB6751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E7D-9F01-4B94-9E01-4ED68A2D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0B6-F1E5-4F12-93E9-3F225BC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024-6B39-47CF-8DA9-30E2B8E7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47E-DDBE-4BAE-99A1-7511B23F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619-4951-43E4-86BE-09C0864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195-A7CC-4C55-AA3F-5C45A8D3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0BE-504D-44F5-BD8D-F5262AF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7C9FB-A9E0-4D20-930D-8650091F42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