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950624"/>
        <c:axId val="52725046"/>
      </c:barChart>
      <c:catAx>
        <c:axId val="399506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25046"/>
        <c:crosses val="autoZero"/>
        <c:auto val="1"/>
        <c:lblAlgn val="ctr"/>
        <c:lblOffset val="100"/>
        <c:noMultiLvlLbl val="0"/>
      </c:catAx>
      <c:valAx>
        <c:axId val="527250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506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984E-9AAF-466D-A198-3086698B3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AC22-F888-43D5-A1E2-3F5568000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A1CB-3E71-41B1-8DD3-177B0A744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35B2-FA77-4114-8ECF-637002F31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44F5-C849-444F-A619-4474B45BF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8DD1-2C1A-4852-B209-A2A0B02E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5A92-6A3C-4184-8C5C-E8D17B2A0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CC0D-3BE7-40A4-8500-D6D626FE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093B-5C7C-44F4-B5FC-8CFACB78B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50CB-7FB5-491D-A561-875B67AB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4987-3311-4591-BDA0-968380A0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C578-BE16-4116-B461-4463ABF5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E0D6A-F3A9-4365-ACFF-02B407FA93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