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65813"/>
        <c:axId val="36005113"/>
      </c:barChart>
      <c:catAx>
        <c:axId val="86865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05113"/>
        <c:crosses val="autoZero"/>
        <c:auto val="1"/>
        <c:lblAlgn val="ctr"/>
        <c:lblOffset val="100"/>
        <c:noMultiLvlLbl val="0"/>
      </c:catAx>
      <c:valAx>
        <c:axId val="36005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65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A1A-3F03-45D2-B5FA-FE54243C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6B3-A11A-4885-B460-2BC01867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D77-62C2-474A-B1C5-85A7B5F9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A42-8049-4A6F-8547-6CA3A97D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3D4-1C57-4271-8F22-0B95B9E7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BC0-1BE9-48E9-BAFE-FF7AF9FF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DAF-24AA-4C82-A2F2-8C67E449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9CE-CD6A-4FEF-AB46-93EA6905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AEA-5187-4895-95D6-066EA299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01B-8E23-46FB-BDC1-751EBFE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A6B-CC91-4B79-B6FB-A67A5C38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14A-7A03-4CCD-BCC4-E438D797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DBDEC-A37C-4901-9FEA-FAA0F0929E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