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9262"/>
        <c:axId val="56378892"/>
      </c:barChart>
      <c:catAx>
        <c:axId val="8699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78892"/>
        <c:crosses val="autoZero"/>
        <c:auto val="1"/>
        <c:lblAlgn val="ctr"/>
        <c:lblOffset val="100"/>
        <c:noMultiLvlLbl val="0"/>
      </c:catAx>
      <c:valAx>
        <c:axId val="56378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82C-EE82-4A10-BCBE-5BCEB934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8CC-FC35-4020-AACA-8DB88A0E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FC0-6C25-4E84-A604-D17DA845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8DF-A411-4693-9200-3D65C919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0A8-DC07-4D92-905D-72A6103E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828-FA16-41D5-93B6-90DD1E99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C79-D9D3-435F-913D-DDA0BFAE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3FA-9E5B-4B11-BD7B-6AA116D2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5AC-AE73-4EC1-8A24-B3C09826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74E-45CC-497E-B165-1CCEE442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B52-28C9-4FEC-B3EE-6EDFEC66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C46-61DF-499B-B3F8-3D3F5208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60473-9E70-4FCA-9A08-EAD0835B61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