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76855"/>
        <c:axId val="96410256"/>
      </c:barChart>
      <c:catAx>
        <c:axId val="60876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10256"/>
        <c:crosses val="autoZero"/>
        <c:auto val="1"/>
        <c:lblAlgn val="ctr"/>
        <c:lblOffset val="100"/>
        <c:noMultiLvlLbl val="0"/>
      </c:catAx>
      <c:valAx>
        <c:axId val="96410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76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316-7B09-4BA4-9D8D-201985AE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083-562F-439C-BCED-7B4C1C26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8DB-3015-4D1E-B3A5-01041199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FB5-1C00-46C1-A40E-02B7DE50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8A7-91B0-43B0-BDCC-891BD324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D44-8554-4BA6-882E-16AF8373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7F4-A5BB-4A00-8047-6D4E6F2E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DA2-1F1B-4057-B447-CBFD65DC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59F-5B26-4487-8438-9D6C2C9E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3C7-319E-408D-8292-3372F00C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50F-9516-4116-BE4E-759C3247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0C2-19B1-4A82-AF6D-6C30E6F7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8E73F-D415-43B5-BBDF-347DAA41E6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