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59184"/>
        <c:axId val="89863777"/>
      </c:barChart>
      <c:catAx>
        <c:axId val="31759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63777"/>
        <c:crosses val="autoZero"/>
        <c:auto val="1"/>
        <c:lblAlgn val="ctr"/>
        <c:lblOffset val="100"/>
        <c:noMultiLvlLbl val="0"/>
      </c:catAx>
      <c:valAx>
        <c:axId val="89863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59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6CB-A5D1-40AB-9A1E-3F2B32EA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591-98E7-4366-A16F-8616B2EF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876-09E6-464B-8129-B007BE59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C4D-532F-47BE-B53B-752D2C35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CAD-9BBC-4498-AB5C-B35C638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EEF-57C8-41DC-B5DB-28EF8A61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069-78E9-41DB-A4C4-B2C38E5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F72-77DB-4470-AEB1-53A7A22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858-E2AA-4CFB-AF17-E9001AB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FEB-14DC-457C-8BA2-CEFD2DA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D4C-198F-477E-81C1-3C7019C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59F-443C-4589-A776-280A543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EF36B-9BD6-4CE8-88C9-D0A13FD5CD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