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6977212"/>
        <c:axId val="96345633"/>
      </c:barChart>
      <c:catAx>
        <c:axId val="6697721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345633"/>
        <c:crosses val="autoZero"/>
        <c:auto val="1"/>
        <c:lblAlgn val="ctr"/>
        <c:lblOffset val="100"/>
        <c:noMultiLvlLbl val="0"/>
      </c:catAx>
      <c:valAx>
        <c:axId val="9634563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97721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7F7CA-F531-4796-9B08-EF72DC8F2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8FDC4-E88D-406F-B0A3-02704E2A4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18DD6-41CB-4DC9-850D-5CD1AD7C6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D39EC-1721-4794-902F-56C0CB309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6C186-5EED-4DB3-936B-E24386747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F7438-A6A4-47A4-8C35-D1B73AA69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FE65B-8896-4CC8-849F-F399D9CCF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A8CDF-B56C-4B6A-A810-8D92BAEED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7725F-5218-4BB8-9DDD-906372E78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3DD27-E2C6-4177-9084-07BC6685B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969B4-AF3B-4884-857E-7DCC4973E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EDEB8-0D67-4A45-A666-77EABB947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38F327-1122-40FF-B5CF-334BD8FE0C7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