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206636"/>
        <c:axId val="84223242"/>
      </c:barChart>
      <c:catAx>
        <c:axId val="27206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23242"/>
        <c:crosses val="autoZero"/>
        <c:auto val="1"/>
        <c:lblAlgn val="ctr"/>
        <c:lblOffset val="100"/>
        <c:noMultiLvlLbl val="0"/>
      </c:catAx>
      <c:valAx>
        <c:axId val="84223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06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011-4676-4554-BC10-20F5F8AF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117-09FB-4B79-B932-4F97983C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34D-5AFD-4A20-8F3D-F06DE1F6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A8B-8BEC-434C-8108-14C0633D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643-C535-478B-A33A-E1310B4A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B8C-7C52-4BEB-9D19-F65E7417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7D7-BA8C-4DEA-8E43-52A30010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1CA-56F7-402D-875F-53C0010E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DE23-7319-4ADD-90AD-B603113E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0C2-30DD-475B-9AE6-0CCDA1C7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60C3-DD10-48DC-A7DD-E15C2C80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BDD-91C6-48BC-AEBC-04ED85A0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92A4A-BC89-49D5-A150-674DD3C58F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