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08177"/>
        <c:axId val="41152676"/>
      </c:barChart>
      <c:catAx>
        <c:axId val="34408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52676"/>
        <c:crosses val="autoZero"/>
        <c:auto val="1"/>
        <c:lblAlgn val="ctr"/>
        <c:lblOffset val="100"/>
        <c:noMultiLvlLbl val="0"/>
      </c:catAx>
      <c:valAx>
        <c:axId val="41152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8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685-7907-4048-B971-89871D6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BAA-C428-4C27-B4B0-7CB8C6C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7DF-3B7B-4911-907E-D534A05B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C8E-7944-4F28-8CA4-16D3A3D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2E9-9F36-410A-82D3-D413AA5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866-9E24-4B2F-9C9D-073169B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C81-A337-4E2B-9675-93E7F48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96E-AC6F-4C36-B9BA-AD4199C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724-0B0B-4683-AC2B-D5F89A0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097-8E29-4096-AE2F-748E64E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D9D-0764-4E5B-AF62-9A28E92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6F1-0135-420F-9B0C-8664D25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CD9D-0D8F-4E6F-B7EE-0734DC24A5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