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71167"/>
        <c:axId val="87474307"/>
      </c:barChart>
      <c:catAx>
        <c:axId val="22371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4307"/>
        <c:crosses val="autoZero"/>
        <c:auto val="1"/>
        <c:lblAlgn val="ctr"/>
        <c:lblOffset val="100"/>
        <c:noMultiLvlLbl val="0"/>
      </c:catAx>
      <c:valAx>
        <c:axId val="87474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71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704-8DD6-42BF-BE8D-CE928D36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46F-52F3-4C73-B11F-66D69C20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179-E867-45B1-9175-143B8EE5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0FA-E108-4D98-8347-7748112D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229-9E27-44EA-BAA0-5972073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A99-BB37-4659-B1DB-7FFAD288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02F-9743-4922-8A35-E24861B6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95F-DE65-405F-9781-634ACA5D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A03-C9EE-4E81-A2AE-08AE948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887-531D-42E7-A1CA-18BC4FA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B42-5A95-4906-999E-0557E19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785-D444-4ADE-ABC9-EB46A3B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F480-F52B-4490-AEA2-A34165161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