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41944"/>
        <c:axId val="90739335"/>
      </c:barChart>
      <c:catAx>
        <c:axId val="69641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39335"/>
        <c:crosses val="autoZero"/>
        <c:auto val="1"/>
        <c:lblAlgn val="ctr"/>
        <c:lblOffset val="100"/>
        <c:noMultiLvlLbl val="0"/>
      </c:catAx>
      <c:valAx>
        <c:axId val="90739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41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902-4716-41C9-A2EC-2206B381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FF4-D90F-4086-88C0-45362D1F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360-060A-4D08-B1C0-37A8C882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1A3-8775-4BBD-BD8B-11C228D3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C31-ECB9-4C78-8666-5F43E01F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6A4-062F-4249-AF23-E53EBB39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B97-0DAF-4DF4-ACE6-165799D6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CF2-BF32-4B10-BE1F-AAF7DB7B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A6A-7F96-499C-8EEC-14FBE238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7B0-D37D-408C-AABD-5DDF505E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044-9910-44EE-8558-7F735FFE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737-A144-4C8A-AF2F-9E91B72F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74E2B-4F1B-4EC5-BFCF-BA5C25D6FF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