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0447"/>
        <c:axId val="6028634"/>
      </c:barChart>
      <c:catAx>
        <c:axId val="6770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8634"/>
        <c:crosses val="autoZero"/>
        <c:auto val="1"/>
        <c:lblAlgn val="ctr"/>
        <c:lblOffset val="100"/>
        <c:noMultiLvlLbl val="0"/>
      </c:catAx>
      <c:valAx>
        <c:axId val="6028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0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474-319C-478A-9FB9-BC2884AE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1A0-9CD2-4C6F-A3B6-BBB6BE45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2FE-D712-4EFD-A38D-2760C32F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B8B-6204-4023-94F8-3DF132A5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82B-DC65-4F47-B8F6-950679BE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706-B79F-4ADB-8695-48A83BD3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EC2-D15B-4840-A711-D0518A96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870-B631-4FFF-A9FA-525CB29A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CCB-E3D4-45D6-9D46-B8577896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F62-AC55-44D8-AD1D-7BF84EA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5E8-CE63-4B7D-B339-E82C5B0B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81A-C82C-4922-ACF9-FE8388B4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F1BF5-3FB5-45B8-8AA4-FBD85B940F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