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39494"/>
        <c:axId val="39226370"/>
      </c:barChart>
      <c:catAx>
        <c:axId val="50239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6370"/>
        <c:crosses val="autoZero"/>
        <c:auto val="1"/>
        <c:lblAlgn val="ctr"/>
        <c:lblOffset val="100"/>
        <c:noMultiLvlLbl val="0"/>
      </c:catAx>
      <c:valAx>
        <c:axId val="39226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9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00-DE9A-441D-8905-9972A876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A47-6CF0-4164-AC85-9A61120F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5FB-3A4B-4E93-82A7-6CC4B557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958-0A96-4120-85CF-B5665F6A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566-BAE6-4F03-9359-F68EE79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8DA-1DB0-4D9F-9CED-3379D04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3C6-54D0-41C2-ACFF-C0126D8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D97-0E1B-4669-81B6-05CDFB1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A7F-3B00-4FF1-8EEB-967736E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672-C306-4C26-B631-D54D20C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ED-D5BD-4B3B-B62E-50093F4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D9-F9AE-4C4A-9F99-A7F5342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11003-39B6-487E-82EE-1CC3E5AC1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