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65484"/>
        <c:axId val="69779937"/>
      </c:barChart>
      <c:catAx>
        <c:axId val="42065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9937"/>
        <c:crosses val="autoZero"/>
        <c:auto val="1"/>
        <c:lblAlgn val="ctr"/>
        <c:lblOffset val="100"/>
        <c:noMultiLvlLbl val="0"/>
      </c:catAx>
      <c:valAx>
        <c:axId val="69779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65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3A8-6E8B-42CB-808B-30A358A6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CEC-91FC-400D-84D7-890BFFC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191-0CA6-4FFC-8AD5-BD4898E6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050-F593-492C-BC9A-80FA8278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D23-577C-440B-9E8A-E43476D6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790-377E-4F0F-A714-769A823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315-4778-408B-8D0A-8AB9041B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D38-D114-4851-A32B-3F92D951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0AE-44BF-4ECD-BAED-2B5AFF96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290-04E5-4094-93D7-721F97C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8FC-AC1C-4259-BA60-1EBB895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A2A-F94F-4EE8-B9D5-00A4D1A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84F0B-219F-445A-BFB7-DE08C5B014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