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98175"/>
        <c:axId val="42878410"/>
      </c:barChart>
      <c:catAx>
        <c:axId val="77398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78410"/>
        <c:crosses val="autoZero"/>
        <c:auto val="1"/>
        <c:lblAlgn val="ctr"/>
        <c:lblOffset val="100"/>
        <c:noMultiLvlLbl val="0"/>
      </c:catAx>
      <c:valAx>
        <c:axId val="42878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98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853-1E8D-4714-B751-87C40EA8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2A1-1667-40A6-BFA2-DE368E1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D6C-4981-44F0-9105-87FD6E32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975-EBE4-4905-A95F-ADB0EBB9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347-A65C-4023-9A4B-049661D2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1C8-AE81-4DC9-B544-FDE85F9A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268-508D-4942-897F-8889DB5C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61E-6F64-4DF8-8796-C667FE7C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9E6-0428-4E44-9E9E-AEED8685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99F-0EF6-4917-BCD1-76557F3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A3E-1237-42F3-AECA-850F724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8D7-090A-4564-A9E1-D30C6A8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D4809-79B8-43E5-92EC-0FF89BC25B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