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56014"/>
        <c:axId val="28485340"/>
      </c:barChart>
      <c:catAx>
        <c:axId val="72556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5340"/>
        <c:crosses val="autoZero"/>
        <c:auto val="1"/>
        <c:lblAlgn val="ctr"/>
        <c:lblOffset val="100"/>
        <c:noMultiLvlLbl val="0"/>
      </c:catAx>
      <c:valAx>
        <c:axId val="28485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56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F4E-132E-4EF6-9613-1D2A3FCF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D71-DA2A-42D8-B88D-6D04165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A3A-59B8-412C-B9C3-3DC2E853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EC-FF9B-402A-92EC-7EDB8559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9FD-4675-4D13-B356-172D2615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14D-914F-427E-8D1D-DB0AB5B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60B-3081-424C-AC07-A9EB0993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A8E-0740-49A7-90B7-1FEC2381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8AD-90FA-41F2-BBB0-12F46FF9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478-B381-4003-967B-0D6883E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E8B-6F1C-4C73-8857-9FAD75B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97A-DCCF-4A9E-B5A7-6AEA112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5A610-C4D3-4069-A50B-F669FAD911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