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95816"/>
        <c:axId val="78141674"/>
      </c:barChart>
      <c:catAx>
        <c:axId val="63795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41674"/>
        <c:crosses val="autoZero"/>
        <c:auto val="1"/>
        <c:lblAlgn val="ctr"/>
        <c:lblOffset val="100"/>
        <c:noMultiLvlLbl val="0"/>
      </c:catAx>
      <c:valAx>
        <c:axId val="78141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95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A58-88A3-4FD6-AEFD-A27C60DD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56C-84A4-46EF-8AAB-414AA1F4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F87-3148-47F6-8F53-A6B3D0FE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594-461C-47CB-8186-D49157A5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F49-757F-4B5A-B346-00648235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CA8-B72D-45AA-85A3-C177A698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53F-D47C-4558-A5D3-51914FD7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840-DFBD-4413-8E94-405F88DE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111-4990-47D9-826D-1C0891F5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2F5-D740-43C4-B3E0-A4F8AFC0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394-98B7-49EA-A689-D0C3BB1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106-22D1-4993-9E63-ED5B73C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C86EF-5D3D-4C55-A800-3763A8AF9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