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609684"/>
        <c:axId val="83979768"/>
      </c:barChart>
      <c:catAx>
        <c:axId val="506096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979768"/>
        <c:crosses val="autoZero"/>
        <c:auto val="1"/>
        <c:lblAlgn val="ctr"/>
        <c:lblOffset val="100"/>
        <c:noMultiLvlLbl val="0"/>
      </c:catAx>
      <c:valAx>
        <c:axId val="839797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096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2D6E-0E4B-40D5-B2C0-EBBDC567D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0693-B6E4-4B88-A2F4-E270EFCA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4586-4F3D-4A0F-B2B0-B4D2FDAB9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5414-B3C7-45D7-A935-B3B97A623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2C68-E324-4AFB-843A-37BE46F6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8780-B155-4017-A44D-EBA5CDA2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7F52-37A6-4148-96B5-4BB3F1D4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27A8-B460-43C9-83FB-716AD51B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5D5E-390B-4C9A-A148-B352D8A8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CC9B-144D-4336-A784-14111F78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C01F-2BD0-4BBF-A683-AFA80DD5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DB80-8D19-406D-88CC-64E01715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EB97C2-C4C8-47CE-934A-1957EF40AA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