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26454"/>
        <c:axId val="60265013"/>
      </c:barChart>
      <c:catAx>
        <c:axId val="31326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65013"/>
        <c:crosses val="autoZero"/>
        <c:auto val="1"/>
        <c:lblAlgn val="ctr"/>
        <c:lblOffset val="100"/>
        <c:noMultiLvlLbl val="0"/>
      </c:catAx>
      <c:valAx>
        <c:axId val="60265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26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203-745E-4E38-A232-687B52A7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75C-558C-4874-90F5-D96B85A9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D28-F1C8-4F65-B267-69D9D0F5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2D6-2D8D-461A-948D-7B89D952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35C-DB74-4DE0-B8A2-B3D17518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461-24E9-45DB-9F9F-8153A65A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F26-D9F5-43EC-BE66-272750A1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36B-FAD6-40A5-BA89-B0B2C2D4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D31-FDF4-4D3E-AC8C-C906B5D5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AAA-57BD-4601-82AC-5825CA6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DA1-E9AE-4676-8B2D-1336217A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48F-0A88-47F9-9F14-7B2535A1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98969-FE5A-49FB-B05D-4A8BBDB5E0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