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714353"/>
        <c:axId val="66412510"/>
      </c:barChart>
      <c:catAx>
        <c:axId val="207143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12510"/>
        <c:crosses val="autoZero"/>
        <c:auto val="1"/>
        <c:lblAlgn val="ctr"/>
        <c:lblOffset val="100"/>
        <c:noMultiLvlLbl val="0"/>
      </c:catAx>
      <c:valAx>
        <c:axId val="664125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143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13D2-7A2B-4EE1-9074-08FD520A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CD0F-E8D2-490C-984B-9D89ADE5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B901-AB7F-4758-9C0F-A6E29921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A2DD-CF33-4AED-B1AE-46B670A5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758B-D9BF-4150-95FF-65AA380E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A83F-C0AD-4ABD-8F4E-77C860B5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5B19-3031-4445-910C-200451C0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0684-09C1-4F5F-A125-CF7A48C2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CC98-6449-49AD-92DE-3BC56EF0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9340-3D72-414B-AD61-21C7CD16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4BB3-4881-45EB-9E06-4CB6068D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F722-D33F-41DD-AC86-508DE6E7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E436D-1CDC-40E8-824B-68781AC541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