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29700"/>
        <c:axId val="46719403"/>
      </c:barChart>
      <c:catAx>
        <c:axId val="68529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9403"/>
        <c:crosses val="autoZero"/>
        <c:auto val="1"/>
        <c:lblAlgn val="ctr"/>
        <c:lblOffset val="100"/>
        <c:noMultiLvlLbl val="0"/>
      </c:catAx>
      <c:valAx>
        <c:axId val="46719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9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1F-6BA8-44FF-B4EA-2B25A946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FE4-7DB5-4910-B061-EBF4EC2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3DB-5760-4F9E-829C-79097FB8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ED6-11B5-4B6C-A71F-AA501E13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0F3-4789-4F65-AA52-AEAACE7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D32-5436-4E8C-8097-86AF661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68F-8643-473D-852F-61167C2A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09F-8AE9-4AE4-A841-5226986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22D-A823-49A5-940F-3BFD6A6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36C-C7FC-4E61-88EC-F5D9E1C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83E-683D-48B1-A5F9-2A6696B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2A5-7C53-4AEB-B432-DECC03F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2E93D-60A2-4117-AE26-E76896AE2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