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05912"/>
        <c:axId val="93874325"/>
      </c:barChart>
      <c:catAx>
        <c:axId val="77205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74325"/>
        <c:crosses val="autoZero"/>
        <c:auto val="1"/>
        <c:lblAlgn val="ctr"/>
        <c:lblOffset val="100"/>
        <c:noMultiLvlLbl val="0"/>
      </c:catAx>
      <c:valAx>
        <c:axId val="93874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05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B78-BEDD-49F9-A52B-082D281E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C7A-AA2F-4248-8363-CDC8CE8F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5B3-E05A-434A-9A94-4CE00B12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9E4-3615-4012-A159-9AD89337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385-5006-41B0-80C8-554BCE68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032-8D34-432F-8C54-AB605BD8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58E-1ED8-4250-9771-A69D3BA8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AFC-EEF7-42D8-ADAC-6355A081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598-26AD-40DE-8D16-91A41819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05F-1DB9-4140-BDC1-D5BDAFC2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93A-DBE5-490E-8E21-982B8BE2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63C-EE46-4744-9C0B-1A06A51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63D52-BC9D-4010-A02B-5B28482CA7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