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9613363"/>
        <c:axId val="38251262"/>
      </c:barChart>
      <c:catAx>
        <c:axId val="1961336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251262"/>
        <c:crosses val="autoZero"/>
        <c:auto val="1"/>
        <c:lblAlgn val="ctr"/>
        <c:lblOffset val="100"/>
        <c:noMultiLvlLbl val="0"/>
      </c:catAx>
      <c:valAx>
        <c:axId val="3825126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61336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D0114-0719-4932-B9C3-6F1EE4F00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DE407-F23D-4737-903D-E8C111FD1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091A0-F73E-4371-8B58-B5A712520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C883A-0C88-4B74-8224-C13B5A813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4ECC5-6178-4E23-9EE6-A936C9A68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046EB-B3A0-459A-A141-84938E854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52518-33A4-4709-AD59-5B15C8B89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AD441-022E-4519-A174-0FACF3722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B1A1F-0CEA-4F2A-8DFD-153058550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9CC9A-2C05-4C94-8C86-746A640CA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1ECD7-F6E1-49CB-B8C5-EF9B51B6B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ACC6F-DCCA-4CDD-9F78-B33C2D3E9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868AF8-5172-41F7-97DE-17977A4907E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