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69623"/>
        <c:axId val="73632265"/>
      </c:barChart>
      <c:catAx>
        <c:axId val="41869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32265"/>
        <c:crosses val="autoZero"/>
        <c:auto val="1"/>
        <c:lblAlgn val="ctr"/>
        <c:lblOffset val="100"/>
        <c:noMultiLvlLbl val="0"/>
      </c:catAx>
      <c:valAx>
        <c:axId val="73632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69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F2C-C466-4D88-8167-F5BC0B49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B9B-7E41-413D-A5CF-E70A17F9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41F-03AB-40DF-B79F-B02125CA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4CA-FC91-48E5-BCF6-959EDAD0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327-3E0E-49E0-8D24-3A9B3C0A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C24-A2A2-4F4F-8551-75C1B9ED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41D-1972-4723-82B9-D2977C90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D8F-12AA-4425-8B80-EDE76ACB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572-00BE-4AEF-A359-8EE151C3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F31-793D-4FBA-83BF-822E681E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6D5-7A21-449F-8CBB-073154F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002-BB3A-4E24-94DE-21FC34AC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EF782-1945-4F46-95EE-D5C4967C07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