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5154"/>
        <c:axId val="53908322"/>
      </c:barChart>
      <c:catAx>
        <c:axId val="3615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08322"/>
        <c:crosses val="autoZero"/>
        <c:auto val="1"/>
        <c:lblAlgn val="ctr"/>
        <c:lblOffset val="100"/>
        <c:noMultiLvlLbl val="0"/>
      </c:catAx>
      <c:valAx>
        <c:axId val="53908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5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770-7467-42C4-88ED-ADDF65E0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4BC-C44F-4964-85AD-35462AD9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F7C-B833-42E0-86D3-EDB01C23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BC3-A065-45C3-A352-6E9A04F7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525-3051-4D7E-9949-1F3C1262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126-A889-4281-A704-0927C87E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7C7-1D32-43DF-9EC3-98455049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D1A-B527-4F68-9489-9C8679E2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17E-C91B-446D-B4BF-F149E6F7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CFB-F940-4371-82B9-6AA8ABFD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AEE-91A7-4D6B-BE8A-07AE8AB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0E5-901C-4A18-893E-BF143531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0A87E-E5E9-4694-BEC1-EFD0F46C49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