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80724"/>
        <c:axId val="535335"/>
      </c:barChart>
      <c:catAx>
        <c:axId val="21680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35"/>
        <c:crosses val="autoZero"/>
        <c:auto val="1"/>
        <c:lblAlgn val="ctr"/>
        <c:lblOffset val="100"/>
        <c:noMultiLvlLbl val="0"/>
      </c:catAx>
      <c:valAx>
        <c:axId val="535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80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BE5-6DBE-4A3A-9884-A5377C03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103-11DD-4637-BDF7-7E14931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061-A43C-4228-9B97-FA2471D0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4C5-C537-4D6C-9698-554BDC87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39C-C8DC-471A-AB66-44E722E7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8C5-1EB9-4BB3-9450-8BFB17C3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4E9-1FA0-43B9-A5D9-76B8158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E00-86DD-49D5-A8A0-B91BAED5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F14-B78A-435D-A081-BBF3D0C8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75C-C21A-4B5A-BD6A-EA8418A9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961-313E-4628-A1C2-F64FB84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717-84F7-4122-BC87-9D91B31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66D72-0D50-4883-8E51-9B7765677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