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00920"/>
        <c:axId val="85944273"/>
      </c:barChart>
      <c:catAx>
        <c:axId val="688009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44273"/>
        <c:crosses val="autoZero"/>
        <c:auto val="1"/>
        <c:lblAlgn val="ctr"/>
        <c:lblOffset val="100"/>
        <c:noMultiLvlLbl val="0"/>
      </c:catAx>
      <c:valAx>
        <c:axId val="85944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009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C24-ACDE-466B-B20A-DEF4CC72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D81-81AF-4D03-BA4F-84F4072F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E94-773D-4F7A-ADBD-1D2A473B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251-4F3D-43C5-88C9-F29ED055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E8A-544C-476E-85A8-937078F4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9A6-847A-41EB-B9D9-339C1FFD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E4F-AE04-4FC5-90B8-FE1D2A39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EB8-FA7B-435D-B31A-7B7EA1A5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40C-5845-4FC3-A85E-7B300358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797-BBAC-407F-94B4-F3614678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4EB-0960-4E27-B83A-72128133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314-511C-42C8-9B07-6DB213A9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EF4EC-68EE-478B-B226-F955B11809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