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032920"/>
        <c:axId val="52687689"/>
      </c:barChart>
      <c:catAx>
        <c:axId val="100329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87689"/>
        <c:crosses val="autoZero"/>
        <c:auto val="1"/>
        <c:lblAlgn val="ctr"/>
        <c:lblOffset val="100"/>
        <c:noMultiLvlLbl val="0"/>
      </c:catAx>
      <c:valAx>
        <c:axId val="526876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329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E390-F686-4247-A47F-277E11DC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ACB6-8A56-4BD7-A89D-815BB95B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47DA-C99E-4DFA-89F2-6F9BD485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CAA3-6379-490C-9A1A-81E241EB8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0244-E3A3-415E-BC5D-94956876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9E84-904F-4893-9B68-7D0CCE4D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6A96-6252-4F46-94F6-DEA73877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A99F-8E4D-4997-AAE9-7AD34E88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4113-FDB8-471F-9CFD-CDD460A6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131B-1129-4D86-BE4B-6DAADDAE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4F50-357D-4AE9-BFB1-DAF2149E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8F72-7C90-468B-9ED8-6732D418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009B6-D9AD-474C-82B5-A9538782D8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