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41FD14-376E-418F-916B-03370E35FC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DDA4AA-D719-45BF-923B-087363F2C7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86C930-A327-4729-A074-7D1E0DFE76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B7DA02-8789-42FD-A1A8-D015CDC4B5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6D30C1B-7DC3-4AEF-A706-497ACA30CC5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27A0BA-8F5A-4877-85B0-B30784A23A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404250-5C0F-4F37-A525-8C48679CAB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92DD7C-6B79-4B31-888B-A5221FC86F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6B89E5-4278-4B28-80C1-A35783E718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458CE4-15C1-45A0-A2DB-368D8413F3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D81D06-EC31-4B0A-9A55-B13B68E7F6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07B464-11DC-4440-B15E-4024D5D03E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6E3EE0-5AAA-4A09-A35E-AC473BC304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5833FA-0D8A-4799-A7F3-0D9B0BCB85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DC52A9-B8FC-47A6-B3E4-582B4806C7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0A9F9F2-D274-4738-8C87-75B75D32B60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979EDFD-5419-407F-B1ED-D41ADC2818C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033C7A-1E7F-4349-9BEF-B6B9FD031D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2D1C32-4027-4CB9-BEAB-C92FD6E8CF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255CD4-9B20-4F58-BB0C-EB88320010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B50A2D-E0D1-4C34-93D9-DA42645D41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4F8951-7B07-485E-A10B-7A4371D231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F0AA74-C29C-49FD-9589-A9556B77C4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1772AD-0967-4493-91D6-87736F9902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56055D-B18C-4B95-BBC9-837F3E7FDA4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D6392A-5287-44DC-ADE7-3F5B977C603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CC2DD09-5F61-4259-B3A7-1C0008BE668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C477335-4247-4C48-B37E-62308FD790EE}"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77E0C2-1ABB-49B3-9DB6-77B372519B64}"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C41B53-005A-4593-AA0B-7DB0A2D2C4E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B1814A-B7E8-4A2E-A7AF-12E7601F1B55}"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A6AD6E-0708-4D95-B109-9F37CDF67668}"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F8A166-65ED-439E-9E0A-BC41E391FC89}"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2A7EAA-C802-4AAD-94C6-78C088D21A50}"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CF65D3-8ADC-4624-AC2F-68F545773FBA}"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ACFCE6-DB47-4984-BF8B-32CA4200418F}"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6BB8C1-96E8-48AD-9420-80C3A3F12F3C}"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8EB700-DC7F-42CF-8DAA-AAC245BB93DA}"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89AB72-02C3-4201-8CA1-BF401C60A727}"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C73120-6465-4593-AEBE-3FBDC7A1D2C7}"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6313EB-F6B2-4D45-A59C-A1D0E2F75020}"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C5F856-EB90-4699-8F5C-71BF3EB1CF2E}"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5DFF20-C983-4072-A4C7-47181B3CAD3E}"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358E10-3115-43A9-948E-9282BEFCE808}"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2A92C0-60D4-4D65-8827-1290D6BC54BD}"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E3E067-5F7D-4B51-945F-F377A76CC340}"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344144-3151-4A70-8F36-A78261C93518}"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4571DB-DFCE-461B-A6C4-57DC8B0DC7C6}"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7F8B5B-3599-4C72-8DF5-8D8E7C3AF434}"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CFDEF1-3830-49D3-B093-AEEEAEC2AA81}"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92CA58-1F43-478A-B9FC-3066814FC7DA}"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53E906-2A4B-4527-B031-B77B5D43DEA6}"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174DE3-5187-4165-B54C-7FAA9945326A}"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E060A81-AD69-470B-98DF-3DACBCA2B0F2}"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6B60F8-6CB5-4D7B-A24A-DEF8792DEDDF}"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8F627E-4E6F-4DF2-AEA7-3ED5F8238AC2}"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FC725E-CAF2-4500-9161-ADAE3FD7DAFC}"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C64B7B-1AA9-418F-9D46-FD9065FF3314}"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A546A6-C93C-48A1-B9FB-6652A694E54F}"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77C103-1AAD-4CA0-9982-2A112C95DF2F}"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8FEB01-F71F-44EE-B45F-AE9B16417FCD}"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426839-ECF3-4C45-B5F8-A7127E978BEB}"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CEFF06-B29F-409A-B12A-A09F2053EBED}"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B8AC1E-7E5E-4DC9-9AE3-9CD6326116C2}"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A4F6C7-8D18-4C98-8F31-5617976CB41F}"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C251FC-4191-4747-B60C-B877EE9CE34E}"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D1899B-CD08-4337-8B24-8B59915D2CF6}"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9E8D45-94FA-427B-A726-5D0AB40F5F23}"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24A30A-3405-49D0-B18C-ECDA5FEC170C}"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CFDC9D-62FD-46D2-AACC-13F67A321DAE}"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A76506-F808-49DC-BA47-D77AB1C00BC4}"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EDCC0B-EDEF-45DB-9C11-C30F118B0088}"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6F5D9A-6F92-4B98-A10D-B94ACEC8BE61}"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05E4DB-5820-43F7-A87D-4AFB92D996C0}"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6CDC8F4-48D7-4A8C-B40B-B89892EBC7AC}"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041048-41D1-491A-93E7-EADC704E2D42}"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DC4CBC-0F7A-4018-8813-3947FAD08681}"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AC17B4A-969D-40F8-BB02-AA0C03737EA1}"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F604FA-9F1F-4AC6-ADE6-50106EBC0F21}"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E89119-0B21-4B34-AA3A-2FD8E50CE7C4}"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88711C-6256-446F-8212-D69A09B937E9}"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5CE357-47FA-4BE3-A8F9-EC39C4F0F5E4}"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311EF0-8DC6-45A0-A513-A34F760BA5A6}"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12B5EA-F720-4C42-92C4-711F57B5F9B7}"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DF6A80-05AB-42C0-A0E7-50D26112D2EB}"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CE282B6-FDBC-4FAD-AAB6-5E9F152D85F7}"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041CE6-DD02-4EB1-8A4E-7C11E73411F4}"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6F8C13-83BC-4BCF-AAAA-C2B28FE37B6C}"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6F5FE7-6408-4310-B956-9780553CD4A6}"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349EE3-A58B-425A-AAC6-6DCC873445AA}"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7191C6-B68D-4368-B6DF-375250D65F3B}"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BA98946-0019-44E2-8BF9-4FE52FB6649B}"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FF7FD9-361D-4BB6-B5C9-CA7BEB6F6343}"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DB18D7-8C64-4986-B63F-2A068210548E}"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6894EC-26FE-442B-BEF5-618FA50D545B}"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998FFD-C2D8-49A9-B108-90A35B626EA2}"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CD92AF2-8FF0-4171-9746-0B43DFC9F170}"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4C9325-181B-43C9-80CB-0CAAB69C8463}"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3F09D6-3226-440B-8E22-614C2A61F86F}"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A3BB17-3412-4C7B-A911-A7E20BCF2CD1}"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B7B4F6-A745-40FA-BEA0-B857B91E795D}"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8F8F25-EAE8-444C-B47B-A1EFBEA785B5}"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8BAD26-C93A-4ACB-B141-935A590D5589}"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83EC69F-B2BB-48C5-8815-5B032A69B7A2}"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984158-BAE4-4B6E-A2E3-902342B59621}"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90A482-E832-42EA-8038-A98B1910385C}"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87A3E8-8366-46C6-A917-F2BD271867A7}"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DFE64DA-1638-4ED4-9825-8D34B3ABE136}"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2D9DA2-FEB8-4000-9864-13ACACF49792}"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383B8FF-96D8-44C3-97F3-9383C5540E46}"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AE13BB-A2BB-48C7-ABC4-AE456D2C603B}"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747D60-588F-4969-AD34-85294F8D5656}"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2A062E-1D14-4FC5-B93E-FD0A5A54224C}"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3D07F3-D765-4B7B-BE39-FB9D003EA248}"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49551B-823B-465C-887A-BD4755401029}"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B83DEB-6D31-4A1A-97AB-E8309EA08342}"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8F2563-A6E7-4345-BEC9-F7BF00D6997D}"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15AE73-D64A-45B3-B8F5-A4E5B5A82381}"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9A88B7-2D51-4489-9D9D-02E4F3274CF9}"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B78983-2F97-4933-AC31-7D7258B85E9F}"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1E70CA-0166-431E-B0A1-98671F765F00}"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64DCF1-18E2-45B2-A956-AF9548F9A987}"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FBE12B-5529-42D1-8B01-3EDF2BCE0698}"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E4B2B4-1D7E-4561-A9C4-E11DEF518705}"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AFAD80-9A42-45D8-A47E-835520C1B90C}"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38BF5C3-F796-49F0-BB84-E1579B6CF30D}"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26FAC4-6E2D-4E7B-9B2C-9B73922F205D}"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1DF54E-9F85-484F-906A-C19F0897BD8A}"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2992B1-1995-46CD-B236-91DA3404F1B0}"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53FD7A-D5EE-40AA-B8A6-BE54042B2441}"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DD5859-04FC-4010-B306-71CD5D7441BD}"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56893E-4538-4357-8526-FA4ED8FC58A6}"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343E7F-DEBB-4ECF-B910-CD292E0E4E22}"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45C29A-35B7-4EF0-9205-65BF15790B99}"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7E4F41-2C9B-4BFC-BDA1-C8D493766811}"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A4FFD8-0B4C-48A2-833A-0B493DA08735}"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6336E8-3DCD-4DBB-ACA7-6F35AC2300C1}"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AB588C-7400-4489-9019-457CA2CCA80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2FAB7A-CC75-4227-BA2D-6D112F7428E4}"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6401C1-75F6-4F84-96B7-16A2F6702FF1}"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24EC9B-05BA-4F7A-B150-799FDF7E945D}"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AE5908-A317-48EE-8164-61A108130464}"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524D3A-8888-4D99-BDDA-526C6C62CE1D}"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28A708-E357-4588-AC78-BF86EC0F0E7F}"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378B85-7C5A-48E5-8299-5BB3A621116A}"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CF44D4-E49E-40C3-AA35-3A442E3D133A}"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375654-615D-43A4-970D-420AF29BCCE8}"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8DB557-55DD-43CB-B8BA-5B5F709A56DF}"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BDAC92-67AF-4F7B-95E0-3416AB82A51E}"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71A2B0-0561-4617-A160-F54010C4E96A}"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2CBD4A-371B-495F-BA85-A9F718AB3B76}"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1C6051-4EA7-4035-99EB-F32399BD2AE5}"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2DA7CA-943B-4573-932E-8481153884F6}"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A10D731-A3CD-46DF-B204-7B4CBC85298C}"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7086FF-FFB2-45D0-9BF8-5980BCC91B5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015F58-64F0-4B8E-971D-6472DD19E17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699D9F-58CF-443B-844F-E648926B917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3A6333-2405-4C5E-BEC7-B090BE75FCE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2406DA-CF17-4069-BD1A-DA08D760C7A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72E932-632C-4AEC-A06A-08497F4F92B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99472A1-1C20-4ACC-95E5-559632995CC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1947D1-4A24-41CA-BCF6-BB5B41E9C42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C21954-6D5B-44E4-AACD-56F955BB741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532F6C-0092-4B78-AC8C-7446B425BA0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203EAB-C2E7-4CAB-AE56-AD04E5D8DC8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62CB2F-FDCA-4C77-8D00-53D339FEACA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B41A77-C72C-46B7-A87E-C2F569851ED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BD7245-C6AB-488E-8BAE-927191FFAA1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7BECA0-66A0-4BB3-9E52-E346B2D6100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385850-F48B-41B1-AF50-70496C5D99E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132628-E170-4237-A65E-67DF0E094F7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1153AD-9C13-4D4D-83B7-1BFDBA4A34D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C0565D-D335-40BA-AE19-1642AC11F93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B7CC41-B9B2-495E-B24C-CB359D0B51B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9C7D80-038F-441A-A2EA-1CFE3064279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0B9EFB-E073-431A-83D9-B91C6E4D80E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337C14-77D9-4AEC-9835-BE3914B3141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EC6EDA-02A0-4C40-9495-DB30F17F26C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F60826-CFFE-44FB-8A9A-D6905E9F8D1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CE3AEF-E94F-4E49-8231-6CE66DAC254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9A938D-B850-4C55-BF65-60272566DB3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E83144-D5CD-4A9A-BF7C-A2E5608CE03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982659-E1B3-4599-8074-858F255ABF7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59A516-99B6-47A8-BD5C-20479B7F0EF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75C96F-C9EC-4807-86C8-7BA8F5A2DC6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D6EAD3-9EC4-4530-8033-2B2DC04666B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6231C0-CED9-4884-9FDF-BDF8B384D62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898112-2499-4799-9709-ADD18C7428B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566F03-C1B6-4890-8535-D33829E6C8E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B90C39-46FB-4333-B1EF-140D7CF7B4E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413223-0762-4A70-9F4E-533D72CEEB4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7E85AF-F765-420A-B670-CC132EB065B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D3EC29-0A92-4845-A2FB-133EECD75B8A}"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8543EA-411B-4C8E-B62E-84429A2FFCD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8DA0A7-F5BE-4733-B8DB-ABC598C9D1E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EA76CB-1189-474B-B039-E9350DB4EA16}"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B857F9-3A63-4514-98A8-7CC32B680EFF}"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9AE8BA-2146-493B-BC43-42C43F3AC7CE}"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2C3041-16C9-40B3-8F0F-4BFDC6C77F7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46B0D2-D3CA-4540-B2DC-9E828BD3CEA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51D07F-5DFF-4461-98B8-AE055AC79C9E}"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AA851FF-1464-4FD0-A5CA-7621BF3A213E}"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D0C8BC-4D46-451C-B7A5-B06228A8F47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6579FF-137C-40BA-869F-F07A5F02D4C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DFB6A2-5A20-4ED9-B399-3EF101901F5A}"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C56A1F-E073-4AF2-8D0B-CAE617E8D2A3}"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417113-9EDB-4919-A7E6-E9C841C26A5B}"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5C527D-2FA3-4EE4-B24E-EA24550B289C}"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2CC139-D38A-405C-9E0C-7502B0C4A49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226C94-F3E7-4696-BAEF-539D3710ED0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DE16717-0FDE-4945-BB7A-CBA1E33CF9B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F4006B-B83B-4230-9D6F-6040E6E6DA1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A54360-10E9-4253-A0D7-91DA452E4DCE}"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213EA8-C7C3-4456-B67B-44F26142F3D9}"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D777BA-D8D1-4D8E-9774-0D0CEEEC9F6F}"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E1DE75-4AEF-4F55-BC05-6270881F914F}"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95C77C-1941-4821-BABF-7825CCCEF1B4}"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F07E62-3911-424A-8A5C-9EAA33E7526E}"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4F6893-87E5-4DF2-A134-9B1D604D12DF}"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005CEE-CD0F-40E0-AFEB-3D3EECB2C4EB}"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761300-C7D3-4E2E-85CC-510FB99C29D3}"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180D98-AF4C-4638-B490-B7D59B07C5A8}"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2B0FD5-BCDE-4F00-9768-759B8CC092FF}"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B0E697-9F2C-4242-AA07-F522C7831C8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E3036D-38C6-4839-876D-D8C89EB0D99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1B51402-AE73-46FD-8DB3-525AEB0C4C90}"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6065E3-BDB4-4BC1-9C92-BDD0D3B10F69}"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A35C93-44D5-413A-BC16-2293AC103BA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1FADF6-BAE9-4B4E-977A-2E455FD10E0C}"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ADAE69-ED03-4E52-B3A7-BF639D240556}"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DBA5A3-8AEB-45DE-AA9A-D9F864F44B7D}"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24EEF5-A6EC-45D1-9EE5-431DEFD8D7D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85E608-11A7-427A-A015-F36E0AB5E43D}"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2EBF43-CE01-402C-AED0-9A7B418F1CE0}"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0FDE70-1865-43A0-9A53-1E9976359312}"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712E30-4C7D-4B6D-92AF-2BCEAF3714ED}"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BBE206-150E-4D41-A717-00A9D9E41582}"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94B974-6ED8-4333-BF62-181D82E4E13E}"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E9306C-B2A2-435B-8885-86CA61559D73}"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